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4A8-584B-4EF9-8C1B-BCAB0F4E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05E-FF2F-478C-9278-2CEE67F4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4AD-0EFB-40FE-8103-E77196CD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39F-E099-4953-8B2E-09A774CB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23639-7E9C-44FC-B21D-B2436BC6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03760-7F03-4BA4-BC07-A341C1C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A95DD-2C03-481D-A706-34782647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18CEF-9657-495D-BC78-A0C678BB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878A3-D2F1-4049-A76A-483864E1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F898E-520A-4E7C-96F0-B08A1F07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28788-20C0-460B-BB64-EDABDCA8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B9D-33A1-4C1F-8DB5-8FD52395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948C1-19EA-4EF3-B0E4-421BE7F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EB202-7AC5-4CBE-AB79-A8612F3C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9014B-13CB-4B07-808D-6070DB54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4A9C8-992D-4E03-A859-31B27FFF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5AE0E-352F-46D1-8B49-27D17BFA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31E-1F10-46AB-97D9-E10F1B98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B2F-907B-4653-B8E2-C8BC2798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57D-6CA1-4950-9FE4-624DF7B8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A89-6FA8-44EB-B627-588FEC8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118-EFB6-4071-9B0F-3E6D7234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0F5-2599-4CC5-BADF-861ACFD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FF0-69C7-4FD6-B073-4AD13C19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4A1B-7327-458C-9A84-AF9500497D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89E2-10CB-41C7-B8BD-1ABB2315AA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4952880"/>
            <a:ext cx="7467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sapeake Bay Executive Council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12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unt Vernon, Virgi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Corbin, Virginia Assistant Secretary of Natura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Roll It All U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New Restoration End D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date by which all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tion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required to achieve the jurisdiction-specific and basinwide cap load allocations have been ful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mplemente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n the groun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ovember 2008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cutive Council M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or Kaine committed the partnership, at the May 2009 EC meeting,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opting a set of 2-year milest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ing a new Bay cleanup deadline (aka Restoration End D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No Later Than” 2025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lestone Next Ste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ck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use partnership’s existing ag/urban BMP and wastewater tracking system (updated every Januar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port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progress updated annually through the Bay Barometer (published every Marc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ap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change partners’ implementation approaches based on new information through annual adaptive management cycle (annuall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n B’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continue development of contingencies to close gaps/ address shortfalls (ongo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ecember 200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retary Preston Bryant established and charged an Action Team, by the April 2009 PSC meeting,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ree on guidelines for jurisdictional development of 2-year milest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jurisdiction-specific 2-year milest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uss options for adopting contingencies upon failure to meet milest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mmend a new Bay cleanup dead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ka Restoration End Da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hese are 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Water Quality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Restoration Mileston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lestones Guiding Princi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milestones for each jurisdiction will likely vary considerably with respect to proposed specific actions, it is critical that the overall combined milestones product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ist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rehens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lestones Guidel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ll focus strictly on Ba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er qualit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restoration g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risdiction-specific milestone outcomes can be rolled up into a single, basin-wide summ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lestone outcomes include: pounds reduced , acres implemented, adoption of new regulations, legislation, poli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count for implementation action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part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lestone Attribu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rst 2-year milestones will be from mid-2009 through end of 20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firming we intend to develop mileston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which ar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‘stretch goals but still attainable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ccelerat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past rates of implementatio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lestones could includ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ommitment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to seek new regulations, enactment of new legislation/poli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late or relate actions and resources to Bay water quality endpo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asurable, trackable, reportable and related to the end goal (cap load allocat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sistency across the 7 jurisdi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5639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76520" y="228600"/>
            <a:ext cx="5333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23:50:32Z</dcterms:created>
  <dc:creator>jcorbin</dc:creator>
  <dc:description/>
  <dc:language>en-US</dc:language>
  <cp:lastModifiedBy>jcorbin</cp:lastModifiedBy>
  <dcterms:modified xsi:type="dcterms:W3CDTF">2009-05-10T22:17:33Z</dcterms:modified>
  <cp:revision>13</cp:revision>
  <dc:subject/>
  <dc:title>Slide 1</dc:title>
</cp:coreProperties>
</file>