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wmf" ContentType="image/x-wmf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8.wmf" ContentType="image/x-wmf"/>
  <Override PartName="/ppt/media/image13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83CF-67B0-4C18-9D07-04321666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1262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2867-87A4-4EF2-977D-35E197A1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0284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126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02840" y="3126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289F-FCEA-484D-BCEE-EC7F408F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68240" y="762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0680" y="762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126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68240" y="3126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0680" y="3126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4361-1426-4661-AA33-433F85F6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8C8E-D872-4836-8D1B-9D514964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B5AF-685E-4425-BA01-A9C06303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F6C5-3599-4991-9EED-E6353405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2840" y="762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764A-7305-489A-AEEE-FCD98DCB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A785-98D0-4E8F-B574-39F999AA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99EB-C1D5-48CA-BFA4-6A0C5394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762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126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009E-3DA2-48E5-ADB9-AD60AB5A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2A53-C417-4E6D-B082-143CF4D5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284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02840" y="3126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F69D-A9AF-43A1-AA10-514919EB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0284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1262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03D1-4D27-4A9A-998B-1577E8FF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31262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EB1A-AF45-432D-A44E-828D8738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0284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126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02840" y="3126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BF75-3EBB-4712-91FC-9CD8FB31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468240" y="762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50680" y="762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3126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468240" y="3126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250680" y="3126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4EEA-69FA-41EA-BDDD-66735B92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3DB4-9D3F-4B3B-B5DF-4D88B64F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2840" y="762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1036-B411-40D2-AA73-00BD9977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0E9A-B854-4A18-8315-32210CB8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BB31-F9A7-4014-9060-38EB7917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762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126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294F-BF08-4FBC-89EF-AD6D087B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284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02840" y="3126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40A1-A53A-4093-B07A-E3795CF4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284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1262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D1DA-67ED-4382-B154-CAADA0E6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6858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4a4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4a4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4a4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4a4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4a4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4a4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4a4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D0AC-C3B2-4F73-9F3B-96B82257C901}" type="slidenum"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90AF-35DC-49D4-8E0A-B169178970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4a4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4a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44a4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4a4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44a4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4a4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44a4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00"/>
                </a:solidFill>
                <a:latin typeface="Garamond"/>
              </a:rPr>
              <a:t>Fitting the pieces together</a:t>
            </a:r>
            <a:endParaRPr b="1" lang="en-US" sz="6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8080" y="4495680"/>
            <a:ext cx="7467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Bob Koroncai</a:t>
            </a:r>
            <a:endParaRPr b="0" lang="en-US" sz="2000" spc="-1" strike="noStrike">
              <a:solidFill>
                <a:srgbClr val="644a4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U.S. EPA Region 3 </a:t>
            </a:r>
            <a:endParaRPr b="0" lang="en-US" sz="2000" spc="-1" strike="noStrike">
              <a:solidFill>
                <a:srgbClr val="644a4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Water Protection Division</a:t>
            </a:r>
            <a:endParaRPr b="0" lang="en-US" sz="20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3276720"/>
            <a:ext cx="6400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y 12, 2009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ecutive Council Mee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676520" y="15238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553080" y="3809880"/>
            <a:ext cx="2438640" cy="2438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5181480" y="1523880"/>
            <a:ext cx="2438640" cy="2438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 rot="19175400">
            <a:off x="0" y="380952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rot="2944200">
            <a:off x="467280" y="10256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TMD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809000">
            <a:off x="2295720" y="2295360"/>
            <a:ext cx="13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2-y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milest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0934000">
            <a:off x="191880" y="4495680"/>
            <a:ext cx="197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Implement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Pl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27760" y="3016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8261600">
            <a:off x="5715360" y="259452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End 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9635600">
            <a:off x="6818040" y="479088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contingen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 flipH="1" rot="1505400">
            <a:off x="6934320" y="4568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21214200">
            <a:off x="6860520" y="1393560"/>
            <a:ext cx="23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consequ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2392-070E-418E-8696-B3CAAF7373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What’s the Scope of the Bay TMDL?</a:t>
            </a:r>
            <a:endParaRPr b="1" lang="en-US" sz="4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8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4a40"/>
                </a:solidFill>
                <a:latin typeface="Arial"/>
              </a:rPr>
              <a:t>Entire watershed</a:t>
            </a: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4a40"/>
                </a:solidFill>
                <a:latin typeface="Arial"/>
              </a:rPr>
              <a:t>Nutrients, sediments</a:t>
            </a: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4a40"/>
                </a:solidFill>
                <a:latin typeface="Arial"/>
              </a:rPr>
              <a:t>All sources</a:t>
            </a: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4a40"/>
                </a:solidFill>
                <a:latin typeface="Arial"/>
              </a:rPr>
              <a:t>Oxygen, clarity/Bay  grasses, algae</a:t>
            </a: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4a40"/>
                </a:solidFill>
                <a:latin typeface="Arial"/>
              </a:rPr>
              <a:t>All impaired tidal water segments</a:t>
            </a: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940280" y="1523880"/>
            <a:ext cx="4203720" cy="441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A7C9-6561-4BBF-B7BD-3F929B853C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4a40"/>
                </a:solidFill>
                <a:latin typeface="Arial"/>
              </a:rPr>
              <a:t>Implementation/Accountability</a:t>
            </a: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  <a:p>
            <a:pPr lvl="1" marL="289440" indent="-1112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4a40"/>
                </a:solidFill>
                <a:latin typeface="Arial"/>
              </a:rPr>
              <a:t>Reasonable</a:t>
            </a:r>
            <a:r>
              <a:rPr b="1" lang="en-US" sz="2800" spc="-1" strike="noStrike">
                <a:solidFill>
                  <a:srgbClr val="644a4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44a40"/>
                </a:solidFill>
                <a:latin typeface="Arial"/>
              </a:rPr>
              <a:t>Assurance</a:t>
            </a: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  <a:p>
            <a:pPr lvl="2" marL="445680" indent="-8892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4a40"/>
                </a:solidFill>
                <a:latin typeface="Arial"/>
              </a:rPr>
              <a:t>Assure that NPS controls in TMDL will be implemented</a:t>
            </a:r>
            <a:endParaRPr b="0" lang="en-US" sz="2400" spc="-1" strike="noStrike">
              <a:solidFill>
                <a:srgbClr val="644a40"/>
              </a:solidFill>
              <a:latin typeface="Arial"/>
            </a:endParaRPr>
          </a:p>
          <a:p>
            <a:pPr lvl="2" marL="445680" indent="-8892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4a40"/>
                </a:solidFill>
                <a:latin typeface="Arial"/>
              </a:rPr>
              <a:t>Basis of Bay TMDL Implementation Framework</a:t>
            </a:r>
            <a:endParaRPr b="0" lang="en-US" sz="24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79360" y="228600"/>
            <a:ext cx="661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What makes the Chesapeake Ba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TMDL diffe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7AC3-F32A-4488-B0A1-CF1F164679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185760"/>
            <a:ext cx="8382240" cy="8380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608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62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The Bay TMDL Implementation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266688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743200" y="4876920"/>
            <a:ext cx="457200" cy="27288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572000" y="4876920"/>
            <a:ext cx="0" cy="73008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867280" y="2863800"/>
            <a:ext cx="533520" cy="48888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5867280" y="4876920"/>
            <a:ext cx="533520" cy="27288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2863800"/>
            <a:ext cx="457200" cy="48888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200400" y="5486400"/>
            <a:ext cx="2841480" cy="1263600"/>
            <a:chOff x="3200400" y="5486400"/>
            <a:chExt cx="2841480" cy="1263600"/>
          </a:xfrm>
        </p:grpSpPr>
        <p:sp>
          <p:nvSpPr>
            <p:cNvPr id="132" name=""/>
            <p:cNvSpPr/>
            <p:nvPr/>
          </p:nvSpPr>
          <p:spPr>
            <a:xfrm>
              <a:off x="3200400" y="5486400"/>
              <a:ext cx="2819520" cy="126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dentify Progra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ap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tween need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rols and existing program capacity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5181480" y="5562720"/>
              <a:ext cx="860400" cy="66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"/>
          <p:cNvGrpSpPr/>
          <p:nvPr/>
        </p:nvGrpSpPr>
        <p:grpSpPr>
          <a:xfrm>
            <a:off x="228600" y="4419720"/>
            <a:ext cx="2514600" cy="1562040"/>
            <a:chOff x="228600" y="4419720"/>
            <a:chExt cx="2514600" cy="1562040"/>
          </a:xfrm>
        </p:grpSpPr>
        <p:sp>
          <p:nvSpPr>
            <p:cNvPr id="135" name=""/>
            <p:cNvSpPr/>
            <p:nvPr/>
          </p:nvSpPr>
          <p:spPr>
            <a:xfrm>
              <a:off x="228600" y="4419720"/>
              <a:ext cx="2514600" cy="15620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t Bienni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ileston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or closing identifi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gram gaps.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ingencies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y state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f milestones fall shor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1905120" y="4471920"/>
              <a:ext cx="761760" cy="74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3200400" y="1143000"/>
            <a:ext cx="2743200" cy="1568520"/>
            <a:chOff x="3200400" y="1143000"/>
            <a:chExt cx="2743200" cy="1568520"/>
          </a:xfrm>
        </p:grpSpPr>
        <p:sp>
          <p:nvSpPr>
            <p:cNvPr id="138" name=""/>
            <p:cNvSpPr/>
            <p:nvPr/>
          </p:nvSpPr>
          <p:spPr>
            <a:xfrm>
              <a:off x="3200400" y="1143000"/>
              <a:ext cx="2743200" cy="15685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mplo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nsequence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y EPA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f appropriate progress is not being m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5029200" y="1143000"/>
              <a:ext cx="906480" cy="9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"/>
          <p:cNvGrpSpPr/>
          <p:nvPr/>
        </p:nvGrpSpPr>
        <p:grpSpPr>
          <a:xfrm>
            <a:off x="3198240" y="3352680"/>
            <a:ext cx="2721600" cy="1556280"/>
            <a:chOff x="3198240" y="3352680"/>
            <a:chExt cx="2721600" cy="1556280"/>
          </a:xfrm>
        </p:grpSpPr>
        <p:sp>
          <p:nvSpPr>
            <p:cNvPr id="141" name=""/>
            <p:cNvSpPr/>
            <p:nvPr/>
          </p:nvSpPr>
          <p:spPr>
            <a:xfrm>
              <a:off x="3198240" y="3352680"/>
              <a:ext cx="2714760" cy="1556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Establis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Chesapeak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Bay TMDL</a:t>
              </a: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Set total nutrient and 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sediment cap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Wasteload and load allo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5289840" y="3396960"/>
              <a:ext cx="630000" cy="102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"/>
          <p:cNvGrpSpPr/>
          <p:nvPr/>
        </p:nvGrpSpPr>
        <p:grpSpPr>
          <a:xfrm>
            <a:off x="6400800" y="2057400"/>
            <a:ext cx="2514600" cy="1752480"/>
            <a:chOff x="6400800" y="2057400"/>
            <a:chExt cx="2514600" cy="1752480"/>
          </a:xfrm>
        </p:grpSpPr>
        <p:sp>
          <p:nvSpPr>
            <p:cNvPr id="144" name=""/>
            <p:cNvSpPr/>
            <p:nvPr/>
          </p:nvSpPr>
          <p:spPr>
            <a:xfrm>
              <a:off x="6400800" y="2057400"/>
              <a:ext cx="2514600" cy="1752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vis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mplementation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la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fying th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utrient an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ediment controls needed to meet the Basin cap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5"/>
            <a:stretch/>
          </p:blipFill>
          <p:spPr>
            <a:xfrm>
              <a:off x="8180280" y="2133720"/>
              <a:ext cx="725760" cy="99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"/>
          <p:cNvGrpSpPr/>
          <p:nvPr/>
        </p:nvGrpSpPr>
        <p:grpSpPr>
          <a:xfrm>
            <a:off x="6400800" y="4495680"/>
            <a:ext cx="2514600" cy="1555920"/>
            <a:chOff x="6400800" y="4495680"/>
            <a:chExt cx="2514600" cy="1555920"/>
          </a:xfrm>
        </p:grpSpPr>
        <p:sp>
          <p:nvSpPr>
            <p:cNvPr id="147" name=""/>
            <p:cNvSpPr/>
            <p:nvPr/>
          </p:nvSpPr>
          <p:spPr>
            <a:xfrm>
              <a:off x="6400800" y="4495680"/>
              <a:ext cx="2514600" cy="15559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valuat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gram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pacity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programmatic, funding, technical) to fully implement State Implementation Pla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6"/>
            <a:stretch/>
          </p:blipFill>
          <p:spPr>
            <a:xfrm>
              <a:off x="8001000" y="4572000"/>
              <a:ext cx="914400" cy="79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"/>
          <p:cNvGrpSpPr/>
          <p:nvPr/>
        </p:nvGrpSpPr>
        <p:grpSpPr>
          <a:xfrm>
            <a:off x="228600" y="2292480"/>
            <a:ext cx="2514600" cy="1218960"/>
            <a:chOff x="228600" y="2292480"/>
            <a:chExt cx="2514600" cy="1218960"/>
          </a:xfrm>
        </p:grpSpPr>
        <p:sp>
          <p:nvSpPr>
            <p:cNvPr id="150" name=""/>
            <p:cNvSpPr/>
            <p:nvPr/>
          </p:nvSpPr>
          <p:spPr>
            <a:xfrm>
              <a:off x="228600" y="2292480"/>
              <a:ext cx="2514600" cy="12189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onitor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ffectiven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asses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ation ac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7"/>
            <a:stretch/>
          </p:blipFill>
          <p:spPr>
            <a:xfrm>
              <a:off x="1930320" y="2298600"/>
              <a:ext cx="811440" cy="94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D2E1-C102-44BD-9342-1467C2D32C20}" type="slidenum">
              <a:t>4</a:t>
            </a:fld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’s on the road ahead?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State Implementation Plan Development (May 2009 – May 2010)</a:t>
            </a:r>
            <a:endParaRPr b="0" lang="en-US" sz="3000" spc="-1" strike="noStrike">
              <a:solidFill>
                <a:srgbClr val="644a4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TMDL 101 public meetings (June – Sept. 2009) </a:t>
            </a:r>
            <a:endParaRPr b="0" lang="en-US" sz="3000" spc="-1" strike="noStrike">
              <a:solidFill>
                <a:srgbClr val="644a4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Draft TMDL Public Notice/Public Meetings (June – Sept. 2010)</a:t>
            </a:r>
            <a:endParaRPr b="0" lang="en-US" sz="3000" spc="-1" strike="noStrike">
              <a:solidFill>
                <a:srgbClr val="644a4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Final TMDL Established (December 2010)</a:t>
            </a:r>
            <a:endParaRPr b="0" lang="en-US" sz="30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67B7-45E5-4666-A204-7CA1C488BE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5:07:09Z</dcterms:created>
  <dc:creator>JSincock</dc:creator>
  <dc:description/>
  <dc:language>en-US</dc:language>
  <cp:lastModifiedBy>carin bisland</cp:lastModifiedBy>
  <dcterms:modified xsi:type="dcterms:W3CDTF">2009-05-08T12:10:31Z</dcterms:modified>
  <cp:revision>83</cp:revision>
  <dc:subject/>
  <dc:title>Slide 1</dc:title>
</cp:coreProperties>
</file>