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D78BEA-54AA-4216-BD47-E77B2CBD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305A5D-0CB3-4600-8276-5674624EA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4723FC-8D54-4B81-8E6E-CD0E8CF5B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89DA00-D9EA-4759-B6DC-ADB378A5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19D39F-EEB5-4798-A1ED-74BF2BCEF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AAC7DF-6CD1-4770-84EA-1EE3001BF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A7C493-9B11-4216-808C-F7A24CCE0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C270A6-D260-4F8B-8124-0E7C762E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CB2969-4811-4948-9E9F-0C7D3FA6E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AE6-67D6-4D25-BDFA-C9AB3C0E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11E-DFC7-491D-A674-F221852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F01-080E-4297-9AEB-E5BEF8CD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D93-8C8A-4010-9C24-2E23C540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4C5-8553-4C64-A828-504704F7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27C-B053-432C-BCC0-569B365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251-930C-48EF-B99B-77F757C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0B1-0540-4120-B07E-D319A66A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34F-B30D-4844-946A-06166E26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ADA-BF14-444E-B17C-4917A3F1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3B4-BC98-4309-AA3C-79880E5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8CC-3644-492B-8177-461572C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159D-4997-4B78-9D96-7971F01BA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SAPEAKE BAY PROGRAM EXECUTIVE COUNCIL GUNSTON HALL ▪ LORTON, VA ▪ JULY 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107-5321-49DE-BB07-B7D120D6D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7"/>
          <p:cNvGraphicFramePr/>
          <p:nvPr/>
        </p:nvGraphicFramePr>
        <p:xfrm>
          <a:off x="1677960" y="3809880"/>
          <a:ext cx="289404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3809880"/>
                    <a:ext cx="28940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1" descr="Xchange logo"/>
          <p:cNvPicPr/>
          <p:nvPr/>
        </p:nvPicPr>
        <p:blipFill>
          <a:blip r:embed="rId3"/>
          <a:stretch/>
        </p:blipFill>
        <p:spPr>
          <a:xfrm>
            <a:off x="4708440" y="3962520"/>
            <a:ext cx="2835360" cy="2819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163980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Strategies To M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Infrastructure Finance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ristopher D. Pomer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9DB6-4ED2-4F6F-8F69-DAFA23DCE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3-Part Point Source Strategy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Virgi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Financial Commi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al grant funding for Wastewater Plant upgr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ve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Watershed General Permit for all discha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-Based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permittee-led trading with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2119-CB3D-4F47-86E6-65D668F6F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. Shared Financial Commitment: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ater Quality Improvement Gr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of the Commonwealth of Virgi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 Grants Program through Stat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sh (% of budget surplus, if any) or debt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imburse Localities for set % of constru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e of Locality (WWTP Own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, design and construct facility up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e facility to meet nutrient performanc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e local share (~ 50% to 75% of total project) usually  with 20 to 30-year deb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84EA-F6EB-4F4E-861B-A40E7D6A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hared Financial Commitment: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vestment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liable State-Local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-year track record (1998-201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Contribution of $744 Million through FY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of $47 million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Y13 Budget adds an above-average $8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lity Contributions (es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grants leveraged ~ $1.5 billion in local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$2 billion (total) inv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78EE-A3B7-4DC5-8FD4-468C8F45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. Innovative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ershed General Permit (WG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permit covers all wastewater treatment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“significant” facilitie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GP Set a Common Schedule for All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effective date of Jan. 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compliance deadline of Jan. 1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stable, predictable regulatory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GP Authorized Use of Trading for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776-E235-43C8-B792-EC50CE766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3. Market-Based Flexibility: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oint Source Nutrient T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icipant-Run Trad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hange Assn &amp; Members create 5-year trad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-operated Exchange facilitates most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Q has oversight authority, but no direct role in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standing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5 Owners, 110 Facilities, and 100%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46,000 N and 77,000 P credits traded and used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credit value of $1.9 million fo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F395-3762-4C54-BD3B-19EF0C6C0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akeholder Perspective on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Keys to This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iable financial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ingness to change old regulator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able rules that focus on the big 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priate flexibility for implementation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-term stable regulatory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OR MORE IN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opher D. Pomero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@AquaLaw.c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AquaLaw.c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04) 716-9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7C07-178A-44AE-AD13-CEC0ACDF5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49640" y="4307040"/>
            <a:ext cx="46735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17"/>
          <p:cNvGraphicFramePr/>
          <p:nvPr/>
        </p:nvGraphicFramePr>
        <p:xfrm>
          <a:off x="1677960" y="3124080"/>
          <a:ext cx="2894040" cy="293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3124080"/>
                    <a:ext cx="28940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1" descr="Xchange logo"/>
          <p:cNvPicPr/>
          <p:nvPr/>
        </p:nvPicPr>
        <p:blipFill>
          <a:blip r:embed="rId3"/>
          <a:stretch/>
        </p:blipFill>
        <p:spPr>
          <a:xfrm>
            <a:off x="4708440" y="3200400"/>
            <a:ext cx="2835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8:43:43Z</dcterms:created>
  <dc:creator>Chris Pomeroy</dc:creator>
  <dc:description/>
  <dc:language>en-US</dc:language>
  <cp:lastModifiedBy>j</cp:lastModifiedBy>
  <dcterms:modified xsi:type="dcterms:W3CDTF">2012-07-09T02:06:35Z</dcterms:modified>
  <cp:revision>605</cp:revision>
  <dc:subject/>
  <dc:title>THE WATER AND WASTE OPERATORS ASSOCIATION</dc:title>
</cp:coreProperties>
</file>