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move the slide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5228-BD4E-4422-B844-DFEC24F8F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3095A-7E30-4D63-90F4-BCF7A5EADD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60360" y="72396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mwater treatment practices presented in this slide show fall into five major categories: stormwater ponds, stormwater wetlands, infiltration practices, filtering practices, and open channels.  Within each category, there are several design vari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4398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4398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0852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7128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0852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7128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3200400" cy="4543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3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3200400" cy="4543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3200400" cy="4543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3200400" cy="454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3200400" cy="454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3200400" cy="4543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3200400" cy="4543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3200400" cy="4543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3200400" cy="4543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3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3200400" cy="45432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c99c"/>
                </a:solidFill>
                <a:latin typeface="MrsEavesBold"/>
              </a:rPr>
              <a:t>Click to edit the title text forma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mde.maryland.gov/programs/Water/StormwaterManagementProgram/Pages/storm_gen_permit.aspx" TargetMode="External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55800"/>
            <a:ext cx="784872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Sans Light"/>
              </a:rPr>
              <a:t>A Overview of Stormwater Management in Maryland</a:t>
            </a:r>
            <a:br>
              <a:rPr sz="4800"/>
            </a:br>
            <a:br>
              <a:rPr sz="2000"/>
            </a:br>
            <a:r>
              <a:rPr b="0" lang="en-US" sz="2800" spc="-1" strike="noStrike">
                <a:solidFill>
                  <a:srgbClr val="ffffff"/>
                </a:solidFill>
                <a:latin typeface="GillSans Light"/>
              </a:rPr>
              <a:t>by Andrew T. Der, C.E.P.</a:t>
            </a:r>
            <a:endParaRPr b="0" lang="en-US" sz="28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304920" y="118440"/>
            <a:ext cx="8001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0c99c"/>
                </a:solidFill>
                <a:latin typeface="MrsEavesBold"/>
              </a:rPr>
              <a:t>Presentation fo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0c99c"/>
                </a:solidFill>
                <a:latin typeface="MrsEavesBold"/>
              </a:rPr>
              <a:t>the Citizen’s Advisory Committee to th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0c99c"/>
                </a:solidFill>
                <a:latin typeface="MrsEavesBold"/>
              </a:rPr>
              <a:t>Chesapeake Executive Counci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0c99c"/>
                </a:solidFill>
                <a:latin typeface="Gill Sans MT"/>
              </a:rPr>
              <a:t>Baltimore, Mary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1905120" y="57387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c99c"/>
                </a:solidFill>
                <a:latin typeface="Gill Sans MT"/>
              </a:rPr>
              <a:t>Wednesday May 22, 20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CWA Section 402 (aka NPDES)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s is the big one for SWM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Referred to as National Pollutant Discharge Elimination System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Originally permitted individual point sources and industrial discharges – and still does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Over time, acknowledged stormwater discharges need regulation after NURP studi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Gill Sans MT"/>
              </a:rPr>
              <a:t>But how could all stormwater discharges be regulated realistically?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60" name="Picture 1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CWA Section 402 Synopsis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2819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Administered by MDE programmatic permits in two phases every five years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Phase I authorizes new construction discharge via a Construction General Permit (GP) - and existing built stormwater systems by a Municipal Separate Storm Sewer System (MS4) General Permit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Phase II authorizes smaller disturbance thresholds for new construction discharges - and smaller MS4 localities and entities (MDTA, WSSC, WMAT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63" name="Picture 1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6019920" cy="3809880"/>
          </a:xfrm>
          <a:prstGeom prst="rect">
            <a:avLst/>
          </a:prstGeom>
          <a:ln w="0">
            <a:noFill/>
          </a:ln>
        </p:spPr>
      </p:pic>
      <p:sp>
        <p:nvSpPr>
          <p:cNvPr id="464" name="TextBox 3"/>
          <p:cNvSpPr/>
          <p:nvPr/>
        </p:nvSpPr>
        <p:spPr>
          <a:xfrm flipH="1">
            <a:off x="3124080" y="5715000"/>
            <a:ext cx="56390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Some rural regions of Maryland (gray) not regulated and state-only SWM (or ag management) criteria appl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Clean Water Act Section 303 (aka TMDL)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97000" y="1447560"/>
            <a:ext cx="404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After the state lists their impaired waters, a Total Maximum Daily Load establishes the maximum pollutant level for restoring water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Been around for smaller segments – the Bay TMDL switches reference to include entire watershed - largest in the country (Conowingo newest)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MS4 compliance is a means for TMDL compliance through 3 Phases of Watershed Implementation Plans (WIP)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Non-MS4 jurisdictions have other challeng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67" name="Picture 1" descr=""/>
          <p:cNvPicPr/>
          <p:nvPr/>
        </p:nvPicPr>
        <p:blipFill>
          <a:blip r:embed="rId1"/>
          <a:stretch/>
        </p:blipFill>
        <p:spPr>
          <a:xfrm>
            <a:off x="4267080" y="1263600"/>
            <a:ext cx="4530960" cy="5321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9"/>
          <p:cNvSpPr/>
          <p:nvPr/>
        </p:nvSpPr>
        <p:spPr>
          <a:xfrm>
            <a:off x="304920" y="2010960"/>
            <a:ext cx="7772400" cy="24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0c99c"/>
                </a:solidFill>
                <a:latin typeface="MrsEavesBold"/>
              </a:rPr>
              <a:t>SWM at the State and Local Level – Getting it On the Grou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9"/>
          <p:cNvSpPr/>
          <p:nvPr/>
        </p:nvSpPr>
        <p:spPr>
          <a:xfrm>
            <a:off x="304920" y="2422440"/>
            <a:ext cx="77724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0c99c"/>
                </a:solidFill>
                <a:latin typeface="MrsEavesBold"/>
              </a:rPr>
              <a:t>New</a:t>
            </a:r>
            <a:r>
              <a:rPr b="1" lang="en-US" sz="5400" spc="-1" strike="noStrike">
                <a:solidFill>
                  <a:srgbClr val="60c99c"/>
                </a:solidFill>
                <a:latin typeface="MrsEavesBold"/>
              </a:rPr>
              <a:t> Construction and Storm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How is SWM Applied at State Level?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ill Sans MT"/>
              </a:rPr>
              <a:t>Maryland’s SWM programs integrate ecological and resource with engineering criteria in context of limits of waters, including wetland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MDE administers the CWA Sec 402 NPDES Construction General Permit criteria concurrently with local SWM ordinance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Compliance is achieved by a Stormwater Pollution Prevention Plan (SWPPP) but in Maryland not usually required if an approved MDE SWM plan - may still apply to industrial activities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Certain DoD and federal facilities may have own SWM mandate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How is SWM Applied Locally?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ill Sans MT"/>
              </a:rPr>
              <a:t>Maryland applies own state SWM standards – triggered by - land - rather than WUS disturbance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Federal and state property regulated directly by MDE SWM, DNR Forest Conservation, and Bay Critical Area Commission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MDE SWM Law delegated to localities and administered by local ordinance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Forest Conservation Act delegated to localities and administer waters buffers by local ordinance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5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In Critical Area, waters buffers, impervious limits, and IDA SWM overlay administered by local planning criteria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What is Maryland’s SWM Law?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76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2012 Maryland Erosion and Sediment Control Law - temporary conditions – incorporates E/S Manual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476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2007 Maryland Stormwater Management Act – permanent conditions - incorporates Maryland Stormwater Design Manual for BMP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375840">
              <a:spcBef>
                <a:spcPts val="476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Formalizes Environmental Site Design (ESD) to the Maximum Extent Practicable (MEP) – to maintain channel stability and mimic “woods in good condition” to receiving water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3758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375840">
              <a:spcBef>
                <a:spcPts val="476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Structural stormwater practices may be used if determined to be necessary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3758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375840">
              <a:spcBef>
                <a:spcPts val="476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BMPs updated as applicable by CBP Expert Panels assisted by Chesapeake Stormwater Network and WQGIT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Best Management Practices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ill Sans MT"/>
              </a:rPr>
              <a:t>BMPs are not just structura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Early Planning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Environmental site design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Maximize stream buffer and sheet flow - disconnect impervious surfac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Re-development criteri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Gill Sans MT"/>
              </a:rPr>
              <a:t>Urban redevelopment of legacy land and unmanaged stormwater done under criteria requires retrofit of existing unmanaged runoff as well as offsite runoff – and can be net gain and contribute to MS4 goal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c99c"/>
                </a:solidFill>
                <a:latin typeface="MrsEavesBold"/>
              </a:rPr>
              <a:t>Structural BMP Synopsis</a:t>
            </a:r>
            <a:endParaRPr b="0" lang="en-US" sz="36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373392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ill Sans MT"/>
              </a:rPr>
              <a:t>Smaller Volumes - try firs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Gill Sans MT"/>
              </a:rPr>
              <a:t>“</a:t>
            </a:r>
            <a:r>
              <a:rPr b="0" i="1" lang="en-US" sz="1900" spc="-1" strike="noStrike">
                <a:solidFill>
                  <a:srgbClr val="ffffff"/>
                </a:solidFill>
                <a:latin typeface="Gill Sans MT"/>
              </a:rPr>
              <a:t>First Flush” is preferred and most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Gill Sans MT"/>
              </a:rPr>
              <a:t>compatible with ESD at-source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Gill Sans MT"/>
              </a:rPr>
              <a:t>and/or pretreatment quality control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Infiltration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trench/basin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279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Filtering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sand filter/bioretention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279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Hydrodynamic Devices above or underground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Curb &amp; gutter vortex/filter basin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“</a:t>
            </a: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Newer” Technology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pervious surfaces/green roof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343040" y="1143000"/>
            <a:ext cx="39625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ill Sans MT"/>
              </a:rPr>
              <a:t>Larger Volumes – if needed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Gill Sans MT"/>
              </a:rPr>
              <a:t>When preferred is Insufficient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Gill Sans MT"/>
              </a:rPr>
              <a:t>for quantity and quality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Stormwater Pond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wet pond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wet ED pond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dry ED pond (for cold water w/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     </a:t>
            </a: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pre-treatment)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multiple pond syste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Stormwater Wetland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shallow marsh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ED shallow wetland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pond/wetland system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304920" y="216360"/>
            <a:ext cx="7772400" cy="60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0c99c"/>
                </a:solidFill>
                <a:latin typeface="MrsEavesBold"/>
              </a:rPr>
              <a:t>What We Will Lear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0c99c"/>
              </a:buClr>
              <a:buFont typeface="MrsEaves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0c99c"/>
              </a:buClr>
              <a:buFont typeface="MrsEaves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0c99c"/>
              </a:buClr>
              <a:buFont typeface="MrsEaves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c99c"/>
                </a:solidFill>
                <a:latin typeface="MrsEavesBold"/>
              </a:rPr>
              <a:t>How the Clean Water Act (CWA) is a basis for many of our current regulatory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0c99c"/>
              </a:buClr>
              <a:buFont typeface="MrsEaves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c99c"/>
                </a:solidFill>
                <a:latin typeface="MrsEavesBold"/>
              </a:rPr>
              <a:t>How the CWA regulates water resources and stormwater at the sit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0c99c"/>
              </a:buClr>
              <a:buFont typeface="MrsEaves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0c99c"/>
              </a:buClr>
              <a:buFont typeface="MrsEaves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c99c"/>
                </a:solidFill>
                <a:latin typeface="MrsEavesBold"/>
              </a:rPr>
              <a:t>How Maryland and localities apply stormwater management (SWM) criteria to new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0c99c"/>
              </a:buClr>
              <a:buFont typeface="MrsEaves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0c99c"/>
              </a:buClr>
              <a:buFont typeface="MrsEaves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c99c"/>
                </a:solidFill>
                <a:latin typeface="MrsEavesBold"/>
              </a:rPr>
              <a:t>How Maryland and localities apply stormwater management criteria to existing built 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0c99c"/>
              </a:buClr>
              <a:buFont typeface="MrsEaves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9"/>
          <p:cNvSpPr/>
          <p:nvPr/>
        </p:nvSpPr>
        <p:spPr>
          <a:xfrm>
            <a:off x="304920" y="1599480"/>
            <a:ext cx="7772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0c99c"/>
                </a:solidFill>
                <a:latin typeface="MrsEavesBold"/>
              </a:rPr>
              <a:t>Developed Urban Areas and pre-existing Stormwater – Our Biggest Challen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How is SWM Applied?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Gill Sans MT"/>
              </a:rPr>
              <a:t>Phase I and Phase II NPDES MS4 Permits - only permitting to “clean up the past” - how can existing unmanaged stormwater be managed?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Fundamental MS4 permit requirements: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• </a:t>
            </a: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Identify stormwater/pollutant sources – biggest regulatory GIS mandate ever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• </a:t>
            </a: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Map stormwater infrastructure, outfalls, BMPs with drainage areas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• </a:t>
            </a: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Map impervious surfaces, water quality monitoring, improvement projects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• </a:t>
            </a: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Maintain an E/S Control and SWM Program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• </a:t>
            </a: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Implement an Illicit Discharge Detection and Elimination enforcement program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• </a:t>
            </a: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Identify sources of litter and floatables and implement education program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Gill Sans MT"/>
              </a:rPr>
              <a:t>• </a:t>
            </a:r>
            <a:r>
              <a:rPr b="1" i="1" lang="en-US" sz="1700" spc="-1" strike="noStrike">
                <a:solidFill>
                  <a:srgbClr val="ffffff"/>
                </a:solidFill>
                <a:latin typeface="Gill Sans MT"/>
              </a:rPr>
              <a:t>Public education and outreach – a means for existing non-managed areas – can be a means for CAC Land Use and Urban Stormwater Subcommittee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Additional MS4 Compliance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More substantial MS4 SWM commitment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Uses the reporting information to supplement WIPs - untreated impervious GIS acreage becomes the baseline impervious from which restoration is measured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By the end of the five year permit term, complete 20% restoration of the baseline impervious area that has not already been restored to the MEP – most formidable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This is how Maryland has committed to EPA to address the Bay TMDL WIP – other Bay states rely on BMPs alone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Each treated acre is one “imperious acre credit” and must be tracked with an annual report to MDE per MDE stormwater wasteload allocation guidance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Alternative MS4 BMP Strategies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Permittees can use a variety of offsets for built environ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treet sweeping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Reforestation/tree planting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Removing imperviou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End-of-pipe step pool storm conveyance and outfall stabilization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atch basin cleaning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tormdrain vacuuming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horeline managemen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ptic upgrad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tream restoration – big one – is it too big?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ill Sans MT"/>
              </a:rPr>
              <a:t>Compliance with new 2018 MDE water quality trading regulations - Anne Arundel and Baltimore Counties already requested modification to their NPDES MS4 permit 20% impervious reduction requirements as a compliance option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Will MS4 Compliance be Achieved?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ill Sans MT"/>
              </a:rPr>
              <a:t>Are counties meeting MS4 permit goals?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ill Sans MT"/>
              </a:rPr>
              <a:t>Will compliance be desktop-based?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Many MS4s having difficulty – and compliance can be trading credits from wastewater program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Likely: Anne Arundel County and SHA - expects to meet goal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Maybe/yes: Baltimore City - proposing trash and street sweeping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Maybe: Frederick County - may be close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No: Montgomery County is under Consent Decree and Prince George’s County may or may not head there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</a:rPr>
              <a:t>All MS4 General Permits are here </a:t>
            </a:r>
            <a:r>
              <a:rPr b="0" lang="en-US" sz="1900" spc="-1" strike="noStrike" u="sng">
                <a:solidFill>
                  <a:srgbClr val="ccccff"/>
                </a:solidFill>
                <a:uFillTx/>
                <a:latin typeface="Gill Sans MT"/>
                <a:hlinkClick r:id="rId1"/>
              </a:rPr>
              <a:t>https://mde.maryland.gov/programs/Water/StormwaterManagementProgram/Pages/storm_gen_permit.aspx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9"/>
          <p:cNvSpPr/>
          <p:nvPr/>
        </p:nvSpPr>
        <p:spPr>
          <a:xfrm>
            <a:off x="304920" y="2833920"/>
            <a:ext cx="7772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0c99c"/>
                </a:solidFill>
                <a:latin typeface="MrsEavesBold"/>
              </a:rPr>
              <a:t>Questions/Discus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9"/>
          <p:cNvSpPr/>
          <p:nvPr/>
        </p:nvSpPr>
        <p:spPr>
          <a:xfrm>
            <a:off x="304920" y="1599480"/>
            <a:ext cx="7772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0c99c"/>
                </a:solidFill>
                <a:latin typeface="MrsEavesBold"/>
              </a:rPr>
              <a:t>Stormwater Management (SWM) and the Clean Water Act (CWA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What is the CWA?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37335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1948 Federal Water Pollution Control Act and 1972 amendments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Most influential water law in history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Prohibits “discharges” for first time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ill Sans MT"/>
              </a:rPr>
              <a:t>Catalyst for other state and local programs we have today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42" name="Picture 1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4540320" cy="4724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CWA Regulation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Establishes the means to regulate discharges into the Waters of the U. S. (WUS)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Rules under debate now – and also affect SWM – </a:t>
            </a:r>
            <a:r>
              <a:rPr b="1" i="1" lang="en-US" sz="2200" spc="-1" strike="noStrike">
                <a:solidFill>
                  <a:srgbClr val="ffffff"/>
                </a:solidFill>
                <a:latin typeface="Gill Sans MT"/>
              </a:rPr>
              <a:t>why?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U. S. EPA through the Maryland Department of the Environment (MDE) implements point source discharges/pollution controls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Gradually transitioned to also nonpoint source control – and farther upstream – </a:t>
            </a:r>
            <a:r>
              <a:rPr b="1" i="1" lang="en-US" sz="2200" spc="-1" strike="noStrike">
                <a:solidFill>
                  <a:srgbClr val="ffffff"/>
                </a:solidFill>
                <a:latin typeface="Gill Sans MT"/>
              </a:rPr>
              <a:t>this is key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45" name="Picture 1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298760" cy="441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CWA Section 404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352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Gill Sans MT"/>
              </a:rPr>
              <a:t>Regulates discharges to WUS, including wetlands, at the site level</a:t>
            </a: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Gill Sans MT"/>
              </a:rPr>
              <a:t>Requires a U. S. Army Corps of Engineers (COE) and MDE permit</a:t>
            </a: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i="1" lang="en-US" sz="2500" spc="-1" strike="noStrike">
                <a:solidFill>
                  <a:srgbClr val="ffffff"/>
                </a:solidFill>
                <a:latin typeface="Gill Sans MT"/>
              </a:rPr>
              <a:t>SWM, TMDL restoration projects need this permit also</a:t>
            </a: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48" name="Picture 1" descr=""/>
          <p:cNvPicPr/>
          <p:nvPr/>
        </p:nvPicPr>
        <p:blipFill>
          <a:blip r:embed="rId1"/>
          <a:stretch/>
        </p:blipFill>
        <p:spPr>
          <a:xfrm>
            <a:off x="3581280" y="2133720"/>
            <a:ext cx="5424480" cy="3811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CWA Section 401 (aka WQC)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A Water Quality Certification must g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o with a Section 404 permit or FERC license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Requires the applicable state (MDE) to issue a WQC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401 WQC certifies that a 404 permit will not violate state water quality standards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This was also the first means to require true SWM in past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A sleeping giant - </a:t>
            </a:r>
            <a:r>
              <a:rPr b="1" i="1" lang="en-US" sz="2200" spc="-1" strike="noStrike">
                <a:solidFill>
                  <a:srgbClr val="ffffff"/>
                </a:solidFill>
                <a:latin typeface="Gill Sans MT"/>
              </a:rPr>
              <a:t>gives MDE a state veto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51" name="Picture 1" descr=""/>
          <p:cNvPicPr/>
          <p:nvPr/>
        </p:nvPicPr>
        <p:blipFill>
          <a:blip r:embed="rId1"/>
          <a:stretch/>
        </p:blipFill>
        <p:spPr>
          <a:xfrm>
            <a:off x="4572000" y="1422360"/>
            <a:ext cx="3914640" cy="513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CWA Section 401 in the Pas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38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401 WQC conveys numerical and narrative water quality standards including EPA Anti-degradation Policy (ADP)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The ADP standard requires methods: </a:t>
            </a: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“…to accomplish the objective of maintaining existing water quality…nonpoint sources shall achieve all cost effective and reasonable best management practices for nonpoint source control…”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i="1" lang="en-US" sz="2100" spc="-1" strike="noStrike">
                <a:solidFill>
                  <a:srgbClr val="ffffff"/>
                </a:solidFill>
                <a:latin typeface="Gill Sans MT"/>
              </a:rPr>
              <a:t>First SWM b</a:t>
            </a:r>
            <a:r>
              <a:rPr b="1" i="1" lang="en-US" sz="2200" spc="-1" strike="noStrike">
                <a:solidFill>
                  <a:srgbClr val="ffffff"/>
                </a:solidFill>
                <a:latin typeface="Gill Sans MT"/>
              </a:rPr>
              <a:t>ut only when a 404 permit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54" name="Picture 1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267080" cy="472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c99c"/>
                </a:solidFill>
                <a:latin typeface="MrsEavesBold"/>
              </a:rPr>
              <a:t>CWA Section 401 in the Present</a:t>
            </a:r>
            <a:endParaRPr b="0" lang="en-US" sz="4000" spc="-1" strike="noStrike">
              <a:solidFill>
                <a:srgbClr val="60c99c"/>
              </a:solidFill>
              <a:latin typeface="MrsEavesBol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What happened to the WQC?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It’s still there – now part of the joint COE/MDE tidal/nontidal wetland and waterway permit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SWM now accomplished by Section 402 NPDES, State SWM law, Forest Conservation Act (and Bay Critical Areas)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Except for (cue dramatic music) Conowingo Dam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Gill Sans MT"/>
              </a:rPr>
              <a:t>Section 401 is the only regulatory control the state has</a:t>
            </a:r>
            <a:endParaRPr b="0" lang="en-US" sz="21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57" name="Picture 1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267080" cy="4648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18:15:33Z</dcterms:created>
  <dc:creator>Pamela Clark</dc:creator>
  <dc:description/>
  <dc:language>en-US</dc:language>
  <cp:lastModifiedBy>Andrew Der</cp:lastModifiedBy>
  <dcterms:modified xsi:type="dcterms:W3CDTF">2019-05-22T01:17:19Z</dcterms:modified>
  <cp:revision>1172</cp:revision>
  <dc:subject/>
  <dc:title>No Slide Title</dc:title>
</cp:coreProperties>
</file>