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4142880" y="-36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496880" y="1200240"/>
            <a:ext cx="4321440" cy="32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731880" y="4619520"/>
            <a:ext cx="5851440" cy="3781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0" y="911808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4142880" y="911808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35FB-3C57-4A07-A2DF-29953BD38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496880" y="1200240"/>
            <a:ext cx="4321440" cy="3240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731880" y="4619520"/>
            <a:ext cx="585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4143240" y="911844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63FB-49A4-46F7-A76D-10BB67699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496880" y="1200240"/>
            <a:ext cx="4321440" cy="3240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731880" y="4619520"/>
            <a:ext cx="585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4143240" y="911844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909A-418A-4668-9B3C-19DA47ACA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496880" y="1200240"/>
            <a:ext cx="4321440" cy="3240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731880" y="4619520"/>
            <a:ext cx="585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lide Number Placeholder 3"/>
          <p:cNvSpPr/>
          <p:nvPr/>
        </p:nvSpPr>
        <p:spPr>
          <a:xfrm>
            <a:off x="4143240" y="911844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D8A1-DA3A-4313-A8FF-2EBC45BEC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496880" y="1200240"/>
            <a:ext cx="4321440" cy="3240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731880" y="4619520"/>
            <a:ext cx="585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4143240" y="911844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942F-104F-4A28-A20F-CB7567D8B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82F-05A8-4C40-BAF4-6320C9BA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771-2DA9-408E-8CB7-D2925D19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5FF98-966C-4E71-BA58-900B415A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FB0FD-696F-4124-AB95-1A61A476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219E8-6266-4DE6-B9F3-41AA66C4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D3070-2278-40B7-B5FE-63FFEED6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DB8AA-0CF0-482F-8180-D86C7FD2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0F5EE-9E87-4268-BC42-10838878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60C80-1D23-4690-86D7-06C47F49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44081-0910-4219-9106-FE4083CB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AF88C-DF35-4AAE-8DFC-5B4FBC10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56CFF-58BD-4D99-8746-A55F6A21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AC4-9FAC-4EDD-8EDE-759F5894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A1C47-B2D7-488B-9031-01193315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66307-8814-40DF-B35B-95A349AE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50967-DFBA-40BD-825B-849DCA3C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EEB3A-1918-4211-92E1-9C60812D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CDC85-94ED-40F8-AFFF-36196EA3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B9A0D-1680-466D-B710-907D95E8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A94B6-1444-4B39-8636-FC3BD723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84E24-C731-4047-A8DF-1955EF31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BA80A-5DEF-4BD3-8F5B-21FF2D41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54047-8782-4553-95FC-7CFF31E2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069-0DCF-4357-A9FA-219ECDCC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DD08C-2FD8-4086-B3DE-1C789FD1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1B995-F238-4990-B204-57A922A1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BDB63-D393-49DF-9543-0CBD9F18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DB459-61AA-487A-B13B-2994DFBF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5CE4F-EE29-44D6-86C2-ADC7026D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86CE5-C1C6-481B-A6B1-CE966767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E73F1-C934-4DA9-ACE7-10CDC778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5546E-D114-42A6-A5A2-1EFC3E78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32CB7-3148-4718-ABA1-88B7EFAD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84150-8404-421F-9979-70FF8152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67BB-5449-489E-ADEF-19940CCF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1ABB3-8598-46EA-A6DC-907181FE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E51A3-B1B9-41BA-96A3-17AC3AEE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F798B-1CDB-43A2-9D48-685670DF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CE186-FC8E-493A-B9B0-1235B3E1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E8258-C0F0-4664-AC14-16AE733E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1BE23-B2FE-44DB-91B0-4FC9964C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0E4A2-55B9-4A91-BA5F-CAF9B691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06C67-B5F1-4B79-B70A-5E884982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611A6-F2E3-4AF3-8F04-84799A00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3DCFB-9348-42D7-9661-994230AE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4BE0-3974-4084-8025-D1998586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3F122-EE18-4D07-9A02-9F096DDD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17ED2-881B-4032-967F-9C6EDEC8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C3369-0024-4A2F-8DC8-EE5D53B4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D3936-311D-41E6-88E8-B3F039B9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5FC16-2531-441B-A5F3-3FA62191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B8EBB-DEB9-47D8-9384-D7EBAE2D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36CCB-0352-4986-9A2D-09DEB5F6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9A706-3D35-4117-A18F-18C1CD08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7BF3B-4467-4DD1-9DD3-84B2D743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B107F-E248-4EC6-B4F6-1B5ABB04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5DA8-A048-4296-BB31-793C9D75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A0D77-80AA-4B4B-80A4-43BEE4A1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51014-EB6B-4A9B-8A23-994ACFC6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64F8D-FCB5-46BB-A615-4CF78B75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C3B8B-6545-4035-92F6-D75B284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0EA25-EB35-4AFC-B8C2-35D5DB2F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194DE-1EED-4B12-AB38-CF9D1527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FE159-DC1B-445E-844C-15AFF911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67F74-36C0-4522-85D8-498424EF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5522B-C7EB-42ED-BE44-E831EA66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0AC39-E82E-475A-A344-A4404054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29EA-AF4E-4455-93FC-242189A9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75574-EA98-421E-BB1C-D0712BDE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34088-7272-4B96-ACB1-CCA512D7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D4346-DE0F-4D73-858C-591EFE7F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B944A-FEC2-4562-9682-746631AE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8AE63-24B6-4286-98D5-6D8F1C63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A3E71-CCE4-4619-8F96-EB6C7435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6BAFC-1227-4269-926B-BEAEF744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23BF0-B515-4AF4-8B3C-9E83B1B3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0B958-ECC5-4030-9900-55F27D9C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5F392-EE04-434E-8C9A-B49822AD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44E0-31AA-4737-8577-A6655AFC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73F54-EE0F-4A0A-94FD-9DEACF31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37A7F-F6AA-444B-9261-39B332DC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CA806-2CBC-41F0-92CC-CA213095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B9A7A1-4471-4F25-AB58-DB3844A5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D0A08-912F-460C-824A-800D0213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F9FCB-4A05-4C59-BDE9-37CFA486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B9AAA-7645-479E-85B9-ECBFD850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DCAAA4-7BFE-47A6-84AF-5C4F6020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6F5D6-7E04-480E-8F95-B28C29EC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EEBBC-CFD6-4923-92E4-C8202E3C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9E3C-2D41-40D2-9FC4-524C53D1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A23B8-11AE-4192-8BF9-D61769B6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645DD-1065-4D7F-885E-8A5C1218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623120-2147-402D-A272-315A50AE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D38642-A9D3-4E2F-9385-142F3DFD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1B504-B3F3-419E-B81B-2738E5C5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3A4381-EDE4-46D5-89B8-33441B48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71DE0-01D9-4269-978F-894963AB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C0DDA0-53B8-4F63-90B3-BF2AC35A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DCC11-2B93-4462-966B-DCB32B98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2D730-BDDB-448F-95E6-5C7D466F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3E3E-4965-411C-9E00-19C900A8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21C28-F581-4BFC-AE36-D9FADB59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C4B8E3-3145-4241-B58B-CD0FCB88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B43D5C-46DD-4242-B595-48AD6738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A79F3-2897-4217-A17C-F8384727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BF421-0388-4A69-8A7A-F350D1E0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F176EB-0E00-4B00-97FF-517ADEAE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AB0472-BA41-4F1D-B82F-7308C757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334B32-50C7-46B2-861C-70B7EEA1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5F257D-C58F-4B85-A556-1B75B1C7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447FF-D51E-461D-B559-79ACD866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F17-BDC0-44E9-8D37-19823314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37A0-9D32-41CA-BDB1-3A2BB3F6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D91844-ED68-472E-A9BA-3ED5D572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24ACDA-5FC1-405E-A1D0-ACC92D73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E863B-DFCD-4285-B642-06A120BB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E3413-7E93-4ACE-9EA4-2411E3FA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9CEBD5-7174-489E-95D8-4CAA32D5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A4C-69D6-4F33-8F50-0AFA6CDA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1B4D-073C-470E-8DEC-E47485A8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626F-5545-4437-B5A8-38775305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4F23-685F-493A-98FC-46AB9F9E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91E56-B01B-412C-846D-E68D6BBB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E13D-92C5-47B0-AF87-A9ADEC40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21D1-153C-4A1E-A5BC-C765388D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71B2-E6D0-49E2-8479-9234E784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F484-2F01-4481-80B6-EF8E89B1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EEF-E3A9-495A-A104-FA79C449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2478-DE1E-49C7-9A7E-69EB60F2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F1FB-E85B-4BBF-9E88-9542B8E1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63D6-8E2C-4081-AB65-E78D571C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23F90-FFA7-49ED-82DB-099864DE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B51A-C966-4116-B5EA-43ACB011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5BC84-95F8-42FD-8021-0A6BC567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F152-726F-4A67-B5BF-5BD7E875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8F1CD-7DCA-4B2B-9AA0-6E15B7EE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7D61A-F659-4EE0-8AE6-F7312483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B63B7-8020-4FC3-98A5-214CA797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55E-BC09-49A6-AEA5-DFA6AA29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7BA99-BE63-487F-A2A8-88F2256A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F3199-A7C8-4E21-BC90-4420C3D4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5DCFB-A76B-42C2-83D9-ADAC4C97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D7477-B69F-4655-949D-F595009C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C9CA-1FDE-4C18-8603-5CDC6CE3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D9D71-136B-43C2-9FDE-335C5410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0686-E13F-4354-87DC-E2F3F64D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61710-8138-4F4E-BA71-B53D7ABF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9CD35-D47D-4FB5-90A1-C7D7AEBC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3EDA-D678-429C-96B7-87E306A5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12C-202E-4F87-A15A-A52B27E5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15FF2-E287-4D93-B833-1FB2B7D5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FFB05-5954-46B6-8A82-5CC2548F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00C2E-02AD-4FEF-8DF4-FAC02C8A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9D1BA-560B-454E-96E6-BF5B6780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58648-C92B-4252-806C-4BA31BD1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CF784-E0C9-407B-A211-B4B2D962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CF03A-1A2D-4086-B63F-DA4970B4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DB838-10E4-4426-9F1C-5FE9B770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96CAD-FDA0-413C-9068-E02A4C50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D48EF-C8B7-456E-AAF5-371E83A5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F17-1C7A-4F12-99E7-A32A0DD6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A609D-36A3-4208-B7B3-CFE60AE0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30103-88A3-412A-B7E6-F78841CC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DEAF9-ED6A-4B25-8B98-6DD505B0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96D84-79C9-4F9A-A067-8A66D758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6E516-D7E4-40D6-8F23-FAD001B1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F40B5-BDF6-4784-BC0C-312E385C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2F45A-A2D0-4A99-B71F-580DFBC0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8D498-DD23-47A8-B363-D957DDA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DC683-0A2C-4D26-B2E5-55A477B4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14913-2EB1-4272-8FE0-B151B6A0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FA8-19BA-4898-9112-2F3EDDDD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2899-A8C0-4C51-B1CC-C6A7D6D2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97E09-8C91-4BFB-9AB5-CA4D4356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2B46C-C0BB-4DCD-ACAF-3C8C3431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1E2F-22EE-49F1-92D4-01E6B77B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8550B-61A1-4501-90B8-B73B4D55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34EC6-E714-4785-9813-EB142CED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97F75-B9F4-4C9B-9127-08372D3E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49CAD-4739-42D7-90DC-AF4282BA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91998-1B57-4D15-ADE8-40E71B90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EE189-CCCE-46E1-B66E-7C68B4F4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7C0-079D-4A86-83C3-CD3A043A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E882C-CFB4-4C15-A922-21A100E0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E53A3-5B56-494C-865D-A7AB37AC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59F0D-FB4C-4FD9-BB52-B7378B31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5F384-66DF-4AF7-B45A-663BAD9A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FD1C5-50F0-42D1-8BAF-B90F7BBF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317A2-4696-4AB5-9FC6-99F3A63D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D3DF1-AF27-4CAA-A235-6B53D816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0311D-B22B-4E1A-B9D6-A66D21EF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C8968-8E15-4972-A5F1-295CB863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356EC-D7C1-46AF-AC6C-052E09A0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72B-B700-4CA7-A70A-CD103539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AFB0C-B014-4CD2-B16C-2C4381EE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41CAA-0669-4549-AEDC-B644193E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65FB7-E072-44F6-A69A-045644E5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56C84-C0B5-49BA-8421-74585DCE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03079-D5D4-4DBA-980A-A0ACBD0B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2E97B-3005-4594-80DF-181ACB35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64DA9-CA84-4F19-9FB0-899BA33C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04B0C-A262-42D5-9457-C53378E8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B0A7F-C56A-458C-B3E5-B9D59EEE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04FAC-F0C1-4659-A4DB-20FF9AB5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4B9B-F908-4D4E-B8D1-5338BD6CFF7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CEAF-ADBC-40F7-A619-92FFCDEB1D7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D897-BEAE-4685-8005-EA256E2E076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F303-464E-447B-A66F-688FF485788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3B3E-FF00-4971-BCB3-189D5CDEE84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F4F0-BF65-4589-BDF2-F8703797F0C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DD0A-B302-4C48-B1EA-0CDD4130909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44C1-5AEF-4D19-A836-A7C35FC2271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CD1E-FF55-4D7F-8C99-533971F35CD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01C8-A3FA-4CEB-9667-A1A1CF8DE77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C5C0-B81F-444E-B167-EC1C7393352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9F24-B481-4C93-A6BC-1160DB55FBC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8E08-DD04-48A5-9CC4-D27AB564633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D2A8-5BE7-4886-92B9-D1E2F8A1F1F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6F57-48CB-4B3C-ADA1-CF4729D83ED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3EB0-F442-46FC-A4FC-5655FB7938E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55FB-E95E-4E2B-BD72-00F3E5167B4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esapeakebay.net/groups/group/Water_Quality_Goal_Implementation_Tea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294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0066cc"/>
                </a:solidFill>
                <a:latin typeface="Century Gothic"/>
              </a:rPr>
              <a:t>Chesapeake Bay TMDL </a:t>
            </a:r>
            <a:br>
              <a:rPr sz="4500"/>
            </a:br>
            <a:r>
              <a:rPr b="1" lang="en-US" sz="4500" spc="-1" strike="noStrike">
                <a:solidFill>
                  <a:srgbClr val="0066cc"/>
                </a:solidFill>
                <a:latin typeface="Century Gothic"/>
              </a:rPr>
              <a:t>2017 Midpoint Assessment: </a:t>
            </a:r>
            <a:br>
              <a:rPr sz="4500"/>
            </a:br>
            <a:r>
              <a:rPr b="1" lang="en-US" sz="4500" spc="-1" strike="noStrike">
                <a:solidFill>
                  <a:srgbClr val="0066cc"/>
                </a:solidFill>
                <a:latin typeface="Century Gothic"/>
              </a:rPr>
              <a:t>A Critical Path Forward</a:t>
            </a:r>
            <a:endParaRPr b="0" lang="en-US" sz="4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728720" y="4038480"/>
            <a:ext cx="6600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ucinda Powe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PA Chesapeake Bay Program Offic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itizens Advisory Committee Meeting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ovember 21, 2014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523520" y="1080"/>
            <a:ext cx="7086600" cy="15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Strategic Issue: Phase 6 Decision Support Tools </a:t>
            </a:r>
            <a:r>
              <a:rPr b="1" lang="en-US" sz="1500" spc="-1" strike="noStrike">
                <a:solidFill>
                  <a:srgbClr val="0066cc"/>
                </a:solidFill>
                <a:latin typeface="Century Gothic"/>
              </a:rPr>
              <a:t>http://www.chesapeakebay.net/groups/group/water_quality_goal_implementation_team/wmp_for_the_mpa  </a:t>
            </a:r>
            <a:endParaRPr b="0" lang="en-US" sz="1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446040" y="1730160"/>
            <a:ext cx="31989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hance decision support tools to improve transparency, accuracy, and confidenc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December 2015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: Draft Phase 6 Watershed Model complete, Partnership review begin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2016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: Partnership review, scenario runs and data inputs incorporated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December 2016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: All models final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5" name="Picture 4" descr=""/>
          <p:cNvPicPr/>
          <p:nvPr/>
        </p:nvPicPr>
        <p:blipFill>
          <a:blip r:embed="rId1"/>
          <a:stretch/>
        </p:blipFill>
        <p:spPr>
          <a:xfrm>
            <a:off x="3657600" y="1716120"/>
            <a:ext cx="5486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89624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entury Gothic"/>
              </a:rPr>
              <a:t>Midpoint Assessment Schedule: Short Term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457200" y="1447920"/>
          <a:ext cx="8458200" cy="510516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4539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11761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and approval of new land use classifications (Oct 20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of proposed land use loading rates (Spring 20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mate change studies conducted by Penn State, UMCES, EPA, and JHU (through 20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94464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and approval of BMP Expert Panels (ongo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l land uses &amp; loading rates into Phase 6 WSM (Oct 20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orporate climate change considerations into Phase 6 (Dec 20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13953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eement on Midpoint Assessment schedule and decision making process (Oct 20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BMPs approved and incorporated into Phase 6 Watershed Model for calibration (Oct 20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ners factor in VA’s James Chlorophyll-a assessment findings; initiate evaluation of changes to allo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113508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ies and monitoring underway for Conowingo Dam/Reser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mes Chlorophyll-a criteria assessment complete (Dec 20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aft Phase 6 watershed model complete; partnership review initiated (Jan 20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8" name=""/>
          <p:cNvGraphicFramePr/>
          <p:nvPr/>
        </p:nvGraphicFramePr>
        <p:xfrm>
          <a:off x="561960" y="1523880"/>
          <a:ext cx="8429760" cy="502920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7207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70668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nership approves Phase 6, other Partnership models (Summer 20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luate progress and attainment of “60% by 2017 goal” (Spring 20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348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nership decisions on offsetting effects of Conowin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risdictions’ draft Phase III WIPs due (June 20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9507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nership decision on how and when to incorporate responses to climate change assess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risdiction’s final Phase III WIPs due (Dec 20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509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 sets Phase III WIP planning targets for 2025 with partnership 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ment of 2018-2019 two-year milestones (early 20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12366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 provides expectations for scope of jurisdictions’ Phase III WIPs (June 20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d on Phase III WIPs and Midpoint Assessment, EPA determines whether to modify the Bay TMDL (early 20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96428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entury Gothic"/>
              </a:rPr>
              <a:t>Midpoint Assessment Schedule: Long Term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Text Box 2"/>
          <p:cNvSpPr/>
          <p:nvPr/>
        </p:nvSpPr>
        <p:spPr>
          <a:xfrm>
            <a:off x="3429000" y="2133720"/>
            <a:ext cx="571500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66cc"/>
                </a:solidFill>
                <a:latin typeface="Swis721 Cn BT"/>
              </a:rPr>
              <a:t>Thank you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66cc"/>
                </a:solidFill>
                <a:latin typeface="Swis721 Cn BT"/>
              </a:rPr>
              <a:t>Questions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39068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What is the Midpoint Assessme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1447560" y="1752120"/>
            <a:ext cx="763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view of progress towards meeting the 2017 60% interim target and 2025 Chesapeake Bay TMDL goal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ptimize implementation of Bay jurisdictions’ WIPs and ensure we’re on track for development of Phase III WIP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ather, review, and incorporate new data and science into the Partnership’s decision support tool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4678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Midpoint Assessment Guiding Principles</a:t>
            </a:r>
            <a:br>
              <a:rPr sz="32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1523880" y="1501560"/>
            <a:ext cx="746784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Continue implementation, tracking progress and reporting results, with stable tools through at least 2017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199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Enhance decision support and assessment tools to enable successful engagement of local partner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199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Incorporate new or refined BMPs and verification of practices into existing accountability tools and reporting protocol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199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ddress emerging issues (e.g., climate change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199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Prioritize midpoint assessment actions and use adaptive management to ensure goals are met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543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Bottom Line for Meeting 2025 Goal</a:t>
            </a: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447560" y="1662120"/>
            <a:ext cx="7391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nership needs to be able to engage local partners in order to get practices on the ground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midpoint assessment priorities to optimize implementation of WIPs to help achieve 2017 and 2025 goals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anges to modeling inputs and assumptions will allow us to work with key partner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ealthy step in adaptive management proces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Content Placeholder 3" descr="image.jpe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79320" y="5868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October 2012 WQGIT F2F Meeting &amp; December 2012 PSC Decisi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50720" y="15382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 October 2012, the WQGIT identified and approved specific priorities to address under the midpoint assessment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 December 2012, the PSC approved the midpoint assessment high-level priorities; the guiding principles, and the overall midpoint assessment schedule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Incorporate better model input data from local partners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Revisit model calibration and assumptions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Make CBP models more transparent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Adjust Phase III WIP deadlines to account for 60% by 2017 goal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BMP Panels and enhanced use of monitoring data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4" name="Slide Number Placeholder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3258-8F39-4D91-BED7-DA16FA1AA7B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142640" y="76320"/>
            <a:ext cx="80931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entury Gothic"/>
              </a:rPr>
              <a:t>Work Plan Development, Implementation &amp;  Timeline: </a:t>
            </a:r>
            <a:r>
              <a:rPr b="0" lang="en-US" sz="19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http://www.chesapeakebay.net/groups/group/Water_Quality_Goal_Implementation_Team</a:t>
            </a:r>
            <a:r>
              <a:rPr b="1" lang="en-US" sz="19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2"/>
          <a:srcRect l="3905" t="5207" r="3126" b="11457"/>
          <a:stretch/>
        </p:blipFill>
        <p:spPr>
          <a:xfrm>
            <a:off x="380880" y="1752480"/>
            <a:ext cx="84265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696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entury Gothic"/>
              </a:rPr>
              <a:t>October 2014 WQGIT F2F Mee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0666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lear understanding of where we need to be by 2017 and what steps need to be taken, and by whom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Understand what information is needed from the midpoint assessment to inform evaluation of 60% by 2017 goal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Full buy in on midpoint assessment schedule and decision-making process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91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Gothic"/>
              </a:rPr>
              <a:t>Strategic Issues of the Midpoint Assess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ew Land Use Classifications &amp; Loading Rates: Improve the resolution of land uses in the Partnership’s decision support tools, including the relative loading rates of nutrients and sediment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corporate BMP expert panel and workgroup recommendations with a focus on adding BMPs and updating current BMPs to enhance the evaluation of progres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hase 6 Decision Support Tools: Enhance decision support tools to improve transparency, accuracy, and confidence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91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Gothic"/>
              </a:rPr>
              <a:t>Strategic Issues of the Midpoint Assess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685800" y="1676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mate Change: Update the Partnership’s decision support tools to reflect climate change considerations. 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nowingo Dam: Factor in the additional nutrient and sediment loads given the Conowingo Dam/ Reservoir have reached dynamic equilibrium and are contributing to Bay water quality impacts. 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James River Chlorophyll-a Criteria Assessment: Determine appropriate criteria in order to protect designated uses in the tidal James River.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PA provides expectations for scope and content of Phase III WIPs based on input from the Partnership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4:56:55Z</dcterms:created>
  <dc:creator>roy jones</dc:creator>
  <dc:description/>
  <dc:language>en-US</dc:language>
  <cp:lastModifiedBy>ACB VA2</cp:lastModifiedBy>
  <cp:lastPrinted>2014-10-02T16:51:23Z</cp:lastPrinted>
  <dcterms:modified xsi:type="dcterms:W3CDTF">2014-11-18T18:35:20Z</dcterms:modified>
  <cp:revision>149</cp:revision>
  <dc:subject/>
  <dc:title>No Slide Title</dc:title>
</cp:coreProperties>
</file>