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B0EF-9D60-42FA-B579-58821EF7B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D0F4-4ED0-4DA5-83BD-9E8AB720F020}" type="slidenum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0636-8CC8-4053-BE76-69A4AA7A1367}" type="slidenum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0642-AB37-461C-B495-0CF85BA4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7071-762D-4D6C-9DE1-D39F0BE0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39D-4BA5-43E4-AB86-2E71911B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0733-112A-4A11-BA94-F1B78065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7861-88B3-48B4-8BFC-2DE155F4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72F9-A42F-41F0-924D-673AC662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DAA6-F93E-45D5-B3AD-8E3C12AE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C58A-B223-4231-8250-C426AD30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F37C-6898-4C33-B197-D017126D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0F61-5ACA-4CEE-A146-E3EC16A1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B721-548D-45AE-A280-7C0A63D6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CAC3-8CA9-46BC-BBF4-76CF6FB0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A8CA-7319-4236-8E77-39F6FDB6F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s://www.youtube.com/watch?v=z84FTchkTq0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lowersusquehannariverkeeper.org/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Gina pic chickies rock 2-07 008"/>
          <p:cNvPicPr/>
          <p:nvPr/>
        </p:nvPicPr>
        <p:blipFill>
          <a:blip r:embed="rId1"/>
          <a:stretch/>
        </p:blipFill>
        <p:spPr>
          <a:xfrm>
            <a:off x="-3146400" y="-2057400"/>
            <a:ext cx="15239880" cy="11430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149040"/>
            <a:ext cx="9144000" cy="32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ower Susquehanna </a:t>
            </a:r>
            <a:r>
              <a:rPr b="0" lang="en-US" sz="4800" spc="-1" strike="noStrike">
                <a:solidFill>
                  <a:srgbClr val="ffffff"/>
                </a:solidFill>
                <a:latin typeface="TheSerif B6 SemiBold"/>
              </a:rPr>
              <a:t>RIVERKEEPER®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</a:t>
            </a: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wer Susquehanna Riverkeeper Assoc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voc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ward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Susquehanna_flood_21sep04"/>
          <p:cNvPicPr/>
          <p:nvPr/>
        </p:nvPicPr>
        <p:blipFill>
          <a:blip r:embed="rId1"/>
          <a:stretch/>
        </p:blipFill>
        <p:spPr>
          <a:xfrm>
            <a:off x="152280" y="685800"/>
            <a:ext cx="8839440" cy="6148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1990800" y="914400"/>
            <a:ext cx="260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squehanna Ri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 flipH="1">
            <a:off x="4187880" y="1371600"/>
            <a:ext cx="271440" cy="609480"/>
          </a:xfrm>
          <a:prstGeom prst="line">
            <a:avLst/>
          </a:prstGeom>
          <a:ln cap="sq" w="223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523880" y="46483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y Brid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 flipV="1">
            <a:off x="3063960" y="4230360"/>
            <a:ext cx="609480" cy="685800"/>
          </a:xfrm>
          <a:prstGeom prst="line">
            <a:avLst/>
          </a:prstGeom>
          <a:ln cap="sq" w="223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514600" y="90360"/>
            <a:ext cx="504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Hurricane Ivan – September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Image result for conowingo dam tropical storm lee"/>
          <p:cNvPicPr/>
          <p:nvPr/>
        </p:nvPicPr>
        <p:blipFill>
          <a:blip r:embed="rId1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7175520" y="60199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nowingo Cl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Image result for tropical storm lee chesapeake bay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80880" y="4190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TANDING BETWEEN POLLUTERS AND OUR RI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LowerSusquehannaRiverkeepe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LowSusRiver@hot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C:\Users\Owner\Pictures\LSR_id_final.png"/>
          <p:cNvPicPr/>
          <p:nvPr/>
        </p:nvPicPr>
        <p:blipFill>
          <a:blip r:embed="rId2"/>
          <a:stretch/>
        </p:blipFill>
        <p:spPr>
          <a:xfrm>
            <a:off x="1028880" y="609480"/>
            <a:ext cx="6933960" cy="32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Image result for lower susquehanna riv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2819520" y="53352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owingo D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4" descr=""/>
          <p:cNvPicPr/>
          <p:nvPr/>
        </p:nvPicPr>
        <p:blipFill>
          <a:blip r:embed="rId1"/>
          <a:stretch/>
        </p:blipFill>
        <p:spPr>
          <a:xfrm>
            <a:off x="12600" y="0"/>
            <a:ext cx="9131400" cy="695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West – Review of LSR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 of Expert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modeling analyses performed for the LSW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that the appropriate input data and assumptions wer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 professional opinions on additional or revised modeling analyses that should have been perfor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SRWA depended on a “daisy chain” of models that passed outputs successively from one model to an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ed sediment quantities were lower than the best available estimates or actual measured data sugg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representation of potential sediment impacts (and in turn likely nutrient impacts) on the Chesapeake B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SRWA Review 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ul Frank – FlowW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685800" y="1616040"/>
            <a:ext cx="12830040" cy="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914400" y="1666800"/>
            <a:ext cx="7467480" cy="509580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304920" y="1143000"/>
            <a:ext cx="853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: COMPARISON OF CONOWINGO FLOW BASED ON INSTANTANEOUS RECORD, DAILY AVERAGE FLOW RECORD, A 24-HOUR RUNNING AVERAGE, AND STORM AVERAGED FL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ge Storm Event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Content Placeholder 3" descr=""/>
          <p:cNvPicPr/>
          <p:nvPr/>
        </p:nvPicPr>
        <p:blipFill>
          <a:blip r:embed="rId1"/>
          <a:stretch/>
        </p:blipFill>
        <p:spPr>
          <a:xfrm>
            <a:off x="762120" y="1417680"/>
            <a:ext cx="7772400" cy="51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 Change Fa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erage temperature in the Northeast are expected to rise between 2.7 and 3 °F by 2035, between 3.6 and 4.8 °F by 2055, and between 4.7 and 8 °F by 2085, compared with the average temperature in 1971-199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amount of precipitation in the NE is expected to increase between 2-7% in 2041-2070, compared with 1971-200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ly, the frequency of extreme precipitation is expected to increase by about 10-20% in the Chesapeake Bay watershed by 2041-2070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Content Placeholder 4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90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ono_flood_sed_1"/>
          <p:cNvPicPr/>
          <p:nvPr/>
        </p:nvPicPr>
        <p:blipFill>
          <a:blip r:embed="rId1"/>
          <a:stretch/>
        </p:blipFill>
        <p:spPr>
          <a:xfrm>
            <a:off x="-457200" y="-11160"/>
            <a:ext cx="10210680" cy="69739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52280" y="63244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Wendy McPherson  (USGS) - 9/20/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5:27:13Z</dcterms:created>
  <dc:creator>Low Sus Riverkeeper</dc:creator>
  <dc:description/>
  <cp:keywords/>
  <dc:language>en-US</dc:language>
  <cp:lastModifiedBy>Lower Susquehanna Riverkeeper</cp:lastModifiedBy>
  <dcterms:modified xsi:type="dcterms:W3CDTF">2018-11-30T06:03:07Z</dcterms:modified>
  <cp:revision>112</cp:revision>
  <dc:subject/>
  <dc:title>Lower Susquehanna RIVERKEEPER®  and  Stewards of the Lower Susquehan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490</vt:lpwstr>
  </property>
</Properties>
</file>