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F6E1-FC33-462C-B44A-3F14BAF7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5410-C446-41F4-AF48-BC7231E9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686-9965-4712-BCCD-CC0B284A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64E-F871-4D8E-8666-B8E32C2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EE4-A1E9-417F-AB89-A81FCB20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529-F8E4-4DD8-9191-28365E49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7BDA-B91B-4CCB-9572-326EB279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D7D-28D6-4345-B2D2-4A9D497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7C25-BE0C-427F-9E7A-7B3656EE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B6D1-5981-4C36-B162-8C3CC2D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952D-C352-4338-A6EF-5457C06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D339-DAE3-40EC-9594-74E7AF0E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B7A-D16B-4C4E-B75F-51B9023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D93-DCB6-46A9-B427-6C5EF3E6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773-9571-42A6-B3B2-21E1FE4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445-3BDA-46D3-8725-FAEE824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5CF-4D39-4054-A5A4-A06AEC13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2B7-F5F0-4CE8-ADAF-F1DFCDFC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456-89B2-4455-9EC2-42FC650E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99B2-EC91-4AAD-B8DD-E2E166EC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B89A-5102-4982-A4CF-3F28BF3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A809-89AF-42E2-82CE-9EDDB1A2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C755-D6BA-492E-AEA3-FDFA8C4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4DFB-C785-4A67-8691-B036F8D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7A9-2075-47BF-A329-44AF6B9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9331-CAE9-43E4-879F-5D585B3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058E-ADB0-457C-B111-DB754FF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F9D9-718C-4C3A-8C5B-4A48042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CE9B-BDA7-4E55-B1F8-03A8888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27FA-A798-4AA2-A582-B97A8416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DAFF-F54B-45E6-840F-6C6293E9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0ECA-67E0-4B85-B9B2-1349F3A4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4D5-88B4-474E-8395-AF996BE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15B-8604-4D35-9505-2B1F320E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8C1-5EB4-4703-9FC4-8727A61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F23-65AB-43B6-A080-DFEA47A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FB1-C01B-4844-8236-DD590BC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A1F-42D7-4DBB-A16C-D6C49AD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E5C-BF00-4751-891E-BAAC3431142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BF7-2BAF-4256-B641-8693F181D5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EE8E-6D60-482F-9E72-9BCC34B8F0F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C0C6-C696-4BB0-B714-6C2B52301F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A70-AB26-4274-AABD-861414CE8EFA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FD1-899B-4AD1-B85E-00FAFCB37A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asttool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237-6246-41FD-BDB3-503BA28E3D2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60280"/>
            <a:ext cx="7963200" cy="270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alibri"/>
              </a:rPr>
              <a:t>Chesapeake Bay TMDL </a:t>
            </a:r>
            <a:br>
              <a:rPr sz="2800"/>
            </a:br>
            <a:r>
              <a:rPr b="1" lang="en-US" sz="2800" spc="-1" strike="noStrike">
                <a:solidFill>
                  <a:srgbClr val="dbf5f9"/>
                </a:solidFill>
                <a:latin typeface="Calibri"/>
              </a:rPr>
              <a:t>Watershed Implementation Plan – Phase II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dbf5f9"/>
                </a:solidFill>
                <a:latin typeface="Calibri"/>
              </a:rPr>
              <a:t>James Davis-Martin, Chesapeake Bay TMDL Coordinator</a:t>
            </a:r>
            <a:br>
              <a:rPr sz="2400"/>
            </a:br>
            <a:br>
              <a:rPr sz="2800"/>
            </a:br>
            <a:r>
              <a:rPr b="1" lang="en-US" sz="2000" spc="-1" strike="noStrike">
                <a:solidFill>
                  <a:srgbClr val="dbf5f9"/>
                </a:solidFill>
                <a:latin typeface="Calibri"/>
              </a:rPr>
              <a:t>Citizens Advisory Committee to the Chesapeake Executive Council</a:t>
            </a:r>
            <a:br>
              <a:rPr sz="2400"/>
            </a:br>
            <a:r>
              <a:rPr b="1" lang="en-US" sz="2000" spc="-1" strike="noStrike">
                <a:solidFill>
                  <a:srgbClr val="dbf5f9"/>
                </a:solidFill>
                <a:latin typeface="Calibri"/>
              </a:rPr>
              <a:t>March 1, 2012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3657600" y="1371600"/>
            <a:ext cx="1752480" cy="167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2F5-2582-4E4F-8B0D-A225362728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egmentSheds750k_swcd"/>
          <p:cNvPicPr/>
          <p:nvPr/>
        </p:nvPicPr>
        <p:blipFill>
          <a:blip r:embed="rId1"/>
          <a:srcRect l="11500" t="24239" r="2999" b="3668"/>
          <a:stretch/>
        </p:blipFill>
        <p:spPr>
          <a:xfrm>
            <a:off x="1635120" y="2585880"/>
            <a:ext cx="6330960" cy="4075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295280" y="2495520"/>
            <a:ext cx="723960" cy="26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93680" y="752400"/>
            <a:ext cx="87692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Questions/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46980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Deliverables &amp; Deadli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765440"/>
            <a:ext cx="86868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red local delive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BM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date progress in current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 Use / Land Cov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ork with EPA for use in Phase 6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17/2025 BMP Scen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ategies to implement BMP scen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l opportunity to submit data – Deadline – 2/01/20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rporation into Final WIP 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1C3-4C34-4E91-AEF0-7D5A4C5236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784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Goal Loads and Reduction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Text Box 714"/>
          <p:cNvSpPr/>
          <p:nvPr/>
        </p:nvSpPr>
        <p:spPr>
          <a:xfrm>
            <a:off x="1444680" y="5408640"/>
            <a:ext cx="650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Best available model representation of the T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oal Load - Modeled 2009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duction Goal / Modeled 2009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FD4-0DBA-4E41-AE86-B00743E44AE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92" descr=""/>
          <p:cNvPicPr/>
          <p:nvPr/>
        </p:nvPicPr>
        <p:blipFill>
          <a:blip r:embed="rId1"/>
          <a:stretch/>
        </p:blipFill>
        <p:spPr>
          <a:xfrm>
            <a:off x="100080" y="1744560"/>
            <a:ext cx="89485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6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BMPs and Implementation Goal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3FE3-8BB5-4E3D-96F1-5C6B635370F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30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78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9160" y="1076400"/>
            <a:ext cx="7924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4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Virginia Assessment and Scenario Tool (VAST)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9640" y="1653840"/>
            <a:ext cx="859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VastTool.or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velop and submit BMP implementation scena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progr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25 Local implementation scen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stimate loads from implementation scena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redu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et local targ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stent with 5.3.2.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Aft>
                <a:spcPts val="300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ll be modified as changes are made to the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ort Land Use d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orting implementation progress in the futur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Aft>
                <a:spcPts val="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cal milestone development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BC2-3340-47F7-B674-72FB9256BC7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6135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Technical Assistance and Funding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84104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nts totaling $200,000 to localities, PDCs and SWCDs for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ircuit Rider – Center for Watershed Prot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chnical Consulting – TetraTe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CR Engagement Te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keholder Assist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llaborative workshops with PDC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CB18-EF91-4B35-B227-069EF3EA8B2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Local Data Collection Resul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5FDE-1679-45DA-B8C6-349B75577BB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3187800"/>
          <a:ext cx="8377200" cy="650880"/>
        </p:xfrm>
        <a:graphic>
          <a:graphicData uri="http://schemas.openxmlformats.org/drawingml/2006/table">
            <a:tbl>
              <a:tblPr/>
              <a:tblGrid>
                <a:gridCol w="8377200"/>
              </a:tblGrid>
              <a:tr h="65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mary of Locality Data Submissions by Delive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42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78000" y="3825720"/>
          <a:ext cx="8385120" cy="2470320"/>
        </p:xfrm>
        <a:graphic>
          <a:graphicData uri="http://schemas.openxmlformats.org/drawingml/2006/table">
            <a:tbl>
              <a:tblPr/>
              <a:tblGrid>
                <a:gridCol w="1396800"/>
                <a:gridCol w="1398600"/>
                <a:gridCol w="1397160"/>
                <a:gridCol w="1396800"/>
                <a:gridCol w="1398600"/>
                <a:gridCol w="1397160"/>
              </a:tblGrid>
              <a:tr h="632160">
                <a:tc>
                  <a:txBody>
                    <a:bodyPr lIns="54720" rIns="54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4720" rIns="54720" tIns="18360" bIns="18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7284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ve - w/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ve - No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54720" rIns="54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7"/>
          <p:cNvSpPr/>
          <p:nvPr/>
        </p:nvSpPr>
        <p:spPr>
          <a:xfrm>
            <a:off x="393840" y="1987560"/>
            <a:ext cx="8407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ived data submissions from 95 percent of Bay loc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9.5% of watershed lan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Federal Facilities Respon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DE9-9915-4022-AD6D-F06021455A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44600" y="2133720"/>
            <a:ext cx="803916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7 million acres of Federal Lands in Virginia’s Bay Watershed (12.3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 Federal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9% of Federal Departments resp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responding hold approximately 90% of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 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taloging existing B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w 2025 implementation scenarios or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59652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Virginia’s Phase II Approach </a:t>
            </a:r>
            <a:br>
              <a:rPr sz="2800"/>
            </a:b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Slide Number Placeholder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AE43-1E46-40BB-B9E2-DDA89881F59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44600" y="2133720"/>
            <a:ext cx="803916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15 – Stakeholder Advisor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30 – Document submission to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ch 30 – May 31 – Public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ed engagement of local and feder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k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estone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11:49Z</dcterms:created>
  <dc:creator>Russell W Baxter</dc:creator>
  <dc:description/>
  <dc:language>en-US</dc:language>
  <cp:lastModifiedBy>Davis-Martin, James (DCR)</cp:lastModifiedBy>
  <dcterms:modified xsi:type="dcterms:W3CDTF">2012-02-29T19:02:38Z</dcterms:modified>
  <cp:revision>461</cp:revision>
  <dc:subject/>
  <dc:title>Virginia’s Watershed Implementation Plan</dc:title>
</cp:coreProperties>
</file>