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C13-F76C-471D-B865-61A24D1C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732-6B20-4605-9D92-DC46A450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1AB-AF4E-49B7-B713-6558F98A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CAB-4C83-468E-9AD4-33830265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663-1D6B-4F39-8AC4-7FA873B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959-DA5D-4293-AE50-BFAE7DB7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68B-E144-488E-8B66-6CA90AE5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9CB-3D68-4779-8608-999B8E14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B4D-730A-4950-9035-5634BC5E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7C3-775B-4BEF-A7B7-95D2183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364-F8A2-4C98-A596-DE2EE697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D4D-6B5B-4E12-B9C5-E94B7D6D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6928-434A-42C5-8ECC-CE500E8BF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cey Wetz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sapeake Bay Tr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Tim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award RFP to be released 5/31/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 Outreach and hold regional webinar-June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award application deadline 08/01/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letters to applicants - late October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award projects  being 11/01/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P release for competitive bid process for service provider to support a regional training initiative-December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 Training Initiative – April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e Mid-Atlantic EE Workgroup - October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award project reports due 11/01/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of sub-award project reports and evaluation survey - December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report to EPA 04/01/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Needs Prioritization Outcomes Formal Educators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694400"/>
        </p:xfrm>
        <a:graphic>
          <a:graphicData uri="http://schemas.openxmlformats.org/drawingml/2006/table">
            <a:tbl>
              <a:tblPr/>
              <a:tblGrid>
                <a:gridCol w="4173480"/>
                <a:gridCol w="676440"/>
                <a:gridCol w="674640"/>
                <a:gridCol w="676080"/>
                <a:gridCol w="676440"/>
                <a:gridCol w="676080"/>
                <a:gridCol w="6764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X) indicates top 2 'High Priority Needs" for Formal Edu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of regional and local environmental iss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of how Env. Ed integrates with common core standards, STEM, emerging new science framework/standard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and use of the Issue Investigation, inquiry based, project based pedag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and use of place based education (e.g environment as an integrating context (EI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ining to increase the use of the outdoors to teach school curricul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elopment of an Environmental Education certification or licensing program for formal edu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Needs Prioritization Outcomes Non-Formal Educators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1219320"/>
          <a:ext cx="8305920" cy="5516280"/>
        </p:xfrm>
        <a:graphic>
          <a:graphicData uri="http://schemas.openxmlformats.org/drawingml/2006/table">
            <a:tbl>
              <a:tblPr/>
              <a:tblGrid>
                <a:gridCol w="4211640"/>
                <a:gridCol w="682920"/>
                <a:gridCol w="682560"/>
                <a:gridCol w="682560"/>
                <a:gridCol w="681120"/>
                <a:gridCol w="682560"/>
                <a:gridCol w="68256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X) indicates top 2 "High Priority Needs" for Non-formal Edu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of regional and local environmental iss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of how EE can support common core, STEM, emerging new science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and use of Issue Investigation, inquiry based, project based pedag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and use of place based education. E.g. Environment as an integrating context (EI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elopment/expansion of an Environmental Education certification or licensing program for non-formal edu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guidance counselors understanding of green career opportun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competence to work with special needs stud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competence to work with under served stud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7668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Needs Prioritization Outcomes EE Program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90720"/>
          <a:ext cx="8686800" cy="5608440"/>
        </p:xfrm>
        <a:graphic>
          <a:graphicData uri="http://schemas.openxmlformats.org/drawingml/2006/table">
            <a:tbl>
              <a:tblPr/>
              <a:tblGrid>
                <a:gridCol w="4954680"/>
                <a:gridCol w="627120"/>
                <a:gridCol w="620640"/>
                <a:gridCol w="619200"/>
                <a:gridCol w="620640"/>
                <a:gridCol w="623880"/>
                <a:gridCol w="62064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X) indicates top 2 "High Priority Needs" for strengthening and supporting high quality environmental education programs in schools and school syste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acity building training for EE organizations (ex. improved ability to fund raise, conduct stronger program evaluati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meetings and workshop opportunities to foster communication across school divisions, and/or sta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roved infrastructure to increase communication and collaboration among EE profession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roved infrastructure to increase communication and collaboration among EE professionals and formal edu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reach and training with nontraditional EE partners (such as community groups, master gardeners etc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collaboration with non-educational organizations (ex. watershed/environmental organizati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cumentation of the link between EE and student achiev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e valuable and accessible information about available outdoor programs at the local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partnerships, collaboration with higher education to connect students/teachers with authentic resear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Needs Prioritization Outcomes School Grounds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066680"/>
          <a:ext cx="8686800" cy="5639040"/>
        </p:xfrm>
        <a:graphic>
          <a:graphicData uri="http://schemas.openxmlformats.org/drawingml/2006/table">
            <a:tbl>
              <a:tblPr/>
              <a:tblGrid>
                <a:gridCol w="4954680"/>
                <a:gridCol w="625320"/>
                <a:gridCol w="622440"/>
                <a:gridCol w="619200"/>
                <a:gridCol w="622080"/>
                <a:gridCol w="620640"/>
                <a:gridCol w="62244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X) indicates top 2 "High Priority Needs" that would increase the ability of formal and non formal educators to support the greening of school grounds, facilities, operations and lear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elop, adopt or enhance an environmental certification program for schoo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 the number of centers/networks to support school greening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access to information on green school tools avail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ining for teachers, administrators, facilities managers to support US Department of Education Green Ribbon school attain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elopment/enhancement of programs and protocols to support wide spread adoption of schoolyard habita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collaboration between schools, school systems and environmental sustainability and green building non-profit organizations. (e.g. Green Building Alliance, US Green Building Council, Farm to School programs, food and nutrition groups, etc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view or analysis of opportunities to integrate green facilities construction/upgrades with curriculum and student experien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695840"/>
                <a:gridCol w="588960"/>
                <a:gridCol w="588960"/>
                <a:gridCol w="588960"/>
                <a:gridCol w="588960"/>
                <a:gridCol w="588960"/>
                <a:gridCol w="588960"/>
              </a:tblGrid>
              <a:tr h="112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X) indicates top 2 "High Priority Needs" from the overall major catego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mal and Non Formal Educator Professional Develop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acity Building and Networ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Opportunities for Student Outdoor Lear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anded School Greening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234"/>
          <p:cNvSpPr/>
          <p:nvPr/>
        </p:nvSpPr>
        <p:spPr>
          <a:xfrm>
            <a:off x="1066680" y="8380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Needs Prioritization Outcomes- Overall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14:57:56Z</dcterms:created>
  <dc:creator>kwetzel</dc:creator>
  <dc:description/>
  <dc:language>en-US</dc:language>
  <cp:lastModifiedBy>sbrzezinski</cp:lastModifiedBy>
  <dcterms:modified xsi:type="dcterms:W3CDTF">2012-06-12T20:01:52Z</dcterms:modified>
  <cp:revision>15</cp:revision>
  <dc:subject/>
  <dc:title>EPA Region 3 Sub-Award Update</dc:title>
</cp:coreProperties>
</file>