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734B-E0D7-4230-9772-1ED23907F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4D16-92FE-4B63-97B8-3DACAC312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goals were solidified in the Meaningful Watershed Experience Keystone Commit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very brief reference to NOAA/CBT evaluation efforts and the recent NELA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BE24-169D-4F76-9260-0B894CEA8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41F2-B849-4A85-A163-D70FED8E4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DBC9-4B1B-4D0A-961C-65D7CFB25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2928-6B0E-4AD2-A51B-A41117322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0D1A-EA87-4214-8B95-0C09E6BCF6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6732-AC41-472D-908D-6A52BE1AAD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9A1EB-A885-4D7B-BAFE-B6FA436821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3CF6-A3C2-44F5-8162-012FBF4D5C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6784B-43EB-4AC7-B11B-58E9E27656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617C8-D1BD-4E64-9C04-EF08CD74B7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29B7A-6501-4808-8E4D-584B16C1B2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07A6-78B8-4C8C-BCE1-83F8CA057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EA97-E28B-46EA-85B2-C0AB9F17C7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55C66-C1EE-4660-BF78-D3703DFCA9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0FED-4A2A-48C5-92EA-2E80D1CABC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EFE3D-105D-471A-8B42-B68F474FDC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64999-0FCA-4344-9A90-CE21A5396A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EE265-6E6A-4B28-8C5C-99DA09B2C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5405-3F29-47FA-A5E5-4FDE63457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ED70-26D8-4782-8BA4-A296BA45B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3A05-B0CE-494F-8F61-40D91D742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27FA-44E3-4844-B7FC-39C4E3D93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5CC5-F813-4C91-B5BB-ED0954563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0080-862E-4BDD-B5EF-2D58669EC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states"/>
          <p:cNvPicPr/>
          <p:nvPr/>
        </p:nvPicPr>
        <p:blipFill>
          <a:blip r:embed="rId2"/>
          <a:stretch/>
        </p:blipFill>
        <p:spPr>
          <a:xfrm>
            <a:off x="4800600" y="1066680"/>
            <a:ext cx="4343400" cy="57913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9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60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FB2A-F971-414B-8773-8BB785113E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07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d07c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d07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d07c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d07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states"/>
          <p:cNvPicPr/>
          <p:nvPr/>
        </p:nvPicPr>
        <p:blipFill>
          <a:blip r:embed="rId2"/>
          <a:stretch/>
        </p:blipFill>
        <p:spPr>
          <a:xfrm>
            <a:off x="4572000" y="76212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07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d07c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d07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d07c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d07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8576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269F-5F58-4345-A7AB-82F39DF38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D9B8-A3DF-454D-A5F0-9A50B8D7B7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60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38120" y="1676160"/>
            <a:ext cx="495324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Literacy Best Practices and Metrics Workshop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ust 27-2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apolis, MD</a:t>
            </a:r>
            <a:br>
              <a:rPr sz="32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G:\Photo GALLERY2\Education\DAVID HARP PHOTOS\DWH080807__114.jpg"/>
          <p:cNvPicPr/>
          <p:nvPr/>
        </p:nvPicPr>
        <p:blipFill>
          <a:blip r:embed="rId1"/>
          <a:stretch/>
        </p:blipFill>
        <p:spPr>
          <a:xfrm>
            <a:off x="711360" y="1066680"/>
            <a:ext cx="31813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C12C-9699-41A3-876D-C762666FF4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WEE “Best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304920" y="14479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2K Keystone “MWEE” Comm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64796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Box 8"/>
          <p:cNvSpPr/>
          <p:nvPr/>
        </p:nvSpPr>
        <p:spPr>
          <a:xfrm>
            <a:off x="5715000" y="2133720"/>
            <a:ext cx="3124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with the class of 2005, provide a meaningful Bay or stream outdoor experience for every school student in the watershed before graduation from hig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EE defined in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tracking bega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5B51-1BDF-4E67-B06A-88233A4E1A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5334120" y="1981080"/>
            <a:ext cx="3352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ing not done in uniform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field experience is re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d that one field experience can’t be only indicator for increased  steward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evaluation of stewardship levels cost prohibitive but is being done at national scale (NEL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xportedChart.jpg"/>
          <p:cNvPicPr/>
          <p:nvPr/>
        </p:nvPicPr>
        <p:blipFill>
          <a:blip r:embed="rId1"/>
          <a:stretch/>
        </p:blipFill>
        <p:spPr>
          <a:xfrm>
            <a:off x="152280" y="1828800"/>
            <a:ext cx="4927680" cy="36957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1600200" y="2286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itoring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CAAE-6C6F-4FFB-83E2-90B05BD3D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85800" y="160020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d07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ymposium on environmental education best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07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session with states to integrate proceedings with implementation and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07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d07c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 procee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d07c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ractices doc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d07c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ducation metrics fo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d07c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track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d07c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1752480" y="1522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sho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7:04:28Z</dcterms:created>
  <dc:creator>CBPO Staff</dc:creator>
  <dc:description/>
  <dc:language>en-US</dc:language>
  <cp:lastModifiedBy>sbrzezinski</cp:lastModifiedBy>
  <dcterms:modified xsi:type="dcterms:W3CDTF">2012-06-05T15:31:37Z</dcterms:modified>
  <cp:revision>81</cp:revision>
  <dc:subject/>
  <dc:title>Executive Order 13508 Final Strategy Overview</dc:title>
</cp:coreProperties>
</file>