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CB07-FED4-4D2A-9963-313CC8358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results of survey mon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103A-A9E8-46ED-B171-C953600CE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CD on PSC for this mee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0733-F9B1-40F1-B37E-9625EC2C5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DC97-2839-415E-BC55-9A36C2409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77B3-D726-41D8-A8E4-2BC8BBCE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CDC8-70D8-4B26-A31D-72F165A91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A010-72F3-4E48-A691-48DBAB7CB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2B12-8FE6-4A43-88E7-A78DD12F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D29F-35D5-4657-8FE8-2E11C2BD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7DD8-56B2-4313-9028-F4E3CC36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9812-3F89-416A-AD75-BC3B8E15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3284-8F7B-4A0E-B129-1DD7BF91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926D-E071-4540-B168-DC1E27F2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FA9C-F76F-4D7B-B070-AEDAB282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9948-DD22-4B02-B0AB-A0C9E724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7CCA-B957-4292-84D8-1A34ED77CE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B320-3018-45BF-A5CC-09BCD7A838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hesapeake_Bay_Thunderstor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Proposed Workplan for Completing the Alignment of the Partnersh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Management Board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9/13/1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arin Bisl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179064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ENT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ussion and 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s needed to workpla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mmend forwarding to PSC for approva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ussion of Go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utcome of Discussion – Feedback to the GITs that will help them improve goal stat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 to Guide Discussion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the goals SMART?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cific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urabl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ievable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ults-oriented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e-Boun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there any goals that give you concer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there specific goals that you need more information 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there anything missing that would keep the Program from achieving its miss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ontent Placeholder 5" descr="normal_iil_diagram_chesapeake_restoration_goals_defending_our_national_treasure~0.png"/>
          <p:cNvPicPr/>
          <p:nvPr/>
        </p:nvPicPr>
        <p:blipFill>
          <a:blip r:embed="rId1"/>
          <a:stretch/>
        </p:blipFill>
        <p:spPr>
          <a:xfrm>
            <a:off x="228600" y="228600"/>
            <a:ext cx="837720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aluate C2K and streamlining of commitm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sure a set of shared priorities that fully represents the interests of the Partnership including consideration of emerging issues(e.g. climate chang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rify governance (roles, organization, operatio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ign efficient operational structure for collabo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able effective communication of Partnership’s refreshed goals, outcomes and accomplishm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July 11, 2011 the EC agreed to use a four stage process as the path forwar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the same meeting, they agreed to use an adaptive management decision support framewor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raft workplan was developed using these two documents as source mater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tting Goals and Outc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evelop Decision Support Frame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ITs use framework for at least one goal by March 31,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aining GIT goals through Framework by end of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B discuss and provide feedback to GIT chairs the full array of draft goal beginning in Aug.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visory Committees will provide advice through MB and PSC repres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tting Goals and Outcomes (Con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  PSC (or Action Team) will review new goals/outcomes, review advice from MB and ACs, assess commitments made through EC actions to determine if new Agreement is necessary (March/Apr 2013 retreat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.  Depending on #6, EC announces adoption of goals /new agreement (2013 EC meet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ENT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Govern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Develop survey for MB to initiate discussions on any necessary changes to the structure, operational functions and membership of the M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GIT 6 will analyze resul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GIT Chairs for input (Sept. 20, 201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MB for recommendations to PSC (Oct. 201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PSC for action (Oct/Nov 201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Governance (Con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3.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GIT 6 will develop draft protocol for “including federal, state, and local partners in the development of the new Agreement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MB to recommend to PSC (Nov. 201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PSC for approval (Jan/Feb 2013 mt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70c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Use protocol to determine goals/outcomes of Program and whether a new agreement is necessary (March/April 2013 retrea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70c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Governance (Con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Using decision-making body identified in protocol, CBP to “revisit the governance and operations of the Chesapeake Bay Program and Partnership . . . To clarify relationships between previous agreement signatories, other federal agencies, and headwater states, and to formalize the role and relationships with the FLC . . 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EC and FLC approve changes to governance (2013 EC meet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1T18:15:39Z</dcterms:created>
  <dc:creator>cbisland</dc:creator>
  <dc:description/>
  <dc:language>en-US</dc:language>
  <cp:lastModifiedBy>cbisland</cp:lastModifiedBy>
  <dcterms:modified xsi:type="dcterms:W3CDTF">2012-09-12T21:14:48Z</dcterms:modified>
  <cp:revision>35</cp:revision>
  <dc:subject/>
  <dc:title>Slide 1</dc:title>
</cp:coreProperties>
</file>