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99D8-DB37-4178-9AF4-9BED1B6B1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C761-17F7-41A7-8477-824FD0F18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7DE2-2093-4CA8-99FF-A8F525A09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6696-932D-4F31-89EC-FC4E281584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BAE2-3B43-43DB-9B86-CB804E75D1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EF90-6EE0-47A9-9A5E-11BF32E45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58D2-C71D-42CC-BD32-35F799ED5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FACF-8556-41F6-A155-0B66B527A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6735-93E0-4E60-AF6A-BB663731C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1EDB-D6CA-47D1-B82D-299487288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B8D8-D78B-43C5-8133-F49F7EDED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7C28-264D-41FF-BFE7-456C38E41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F335-86D0-44EC-BC3A-DE3CDDB5D04A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533520"/>
            <a:ext cx="7239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AV Manage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9240" y="1523880"/>
            <a:ext cx="5105520" cy="3505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76440" y="54100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itle of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10560" y="220968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 or Gra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4771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E9BF-7F8A-4EB0-95E3-D0B1A9B51D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ital Habitats Go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tore, enhance and protect a network of land and water habitats to support fish and wildlife, and to afford other public benefits, including water quality, recreational uses and scenic value across the watersh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ubmerged Aquatic Vegetation (SAV) Outc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ustain and increase the habitat benefits of SAV (underwater grasses) in the Chesapeake Bay. Achieve and sustain the ultimate outcome of 185,000 acres of SAV Bay-wide necessary for a restored Bay. Progress toward this ultimate outcome will be measured against a target of 90,000 acres by 2017 and 130,000 acres by 202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84FD-67CF-4775-8A2B-7841F8CB3C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ortan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Underwater grasses provide significant benefits to aquatic life and serve critical functions in the Chesapeake Bay ecosystem. Underwater grasses add oxygen to the water; improve water clarity by helping suspended sediment settle to the bottom; provide shelter for young striped bass, blue crabs andother species; and reduce shoreline erosion. Increasing the abundance of grasses in the Bay and its rivers will dramatically improve the entire Bay ecosyst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urrent Condi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In 2013, there were an estimated 59,927 acres of underwater grasses in the Chesapeake Bay, achieving 32 percent of the 185,000-acre go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it was Deriv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his outcome was derived from the Chesapeake Bay Program’s Submerged Aquatic Vegetation (SAV) Workgroup and is based on the acreage recorded in certain regions during certain high-growth ye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aselin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he baseline was generated from historical SAV abundance in the Chesapeake B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5448-4664-4E96-9896-CC0B70C35E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Participating Jurisdictions, with the exception of DC, it’s all State, Federal or Acade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?  Would any LGAC members like to be SAV workgroup cha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C34B-020A-4B12-AC79-28118854C2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influencing ability to meet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bitat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ter clarity most crit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disruption (dredging, fisheries, aquaculture, prop scarring etc), shoreline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search 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tools do local governments need to address these facto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7896-EB26-4FAB-8926-88740634D5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Local Engag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Non-profit groups, such as the Chesapeake Bay Foundation, historically have been involved in implementing local community underwater grass plantings in partnership with schools.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ever, recent shifts in acreage goals have resulted in a decreased focus on implementation, and an increase in research efforts inste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local jurisdictions (Talbot, Baltimore Counties in Maryland for example) have been involved in underwater grass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51E9-5232-4DDE-AFFC-FE393753F6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7:07:48Z</dcterms:created>
  <dc:creator>John Cornell</dc:creator>
  <dc:description/>
  <dc:language>en-US</dc:language>
  <cp:lastModifiedBy>Lee Karrh</cp:lastModifiedBy>
  <cp:lastPrinted>2009-01-16T17:28:04Z</cp:lastPrinted>
  <dcterms:modified xsi:type="dcterms:W3CDTF">2014-12-04T18:36:46Z</dcterms:modified>
  <cp:revision>8</cp:revision>
  <dc:subject/>
  <dc:title>PowerPoint Presentation</dc:title>
</cp:coreProperties>
</file>