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70E-C972-498A-9E16-45F5A9C0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3FAC-6E31-4C14-8D96-84A0C181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266-F78C-40D2-8AE2-7649AC97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F631-F88E-4469-BAC5-DACB5D154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89C0-931E-4CF7-A869-54938A5B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5EF-9015-48CF-83A4-34B0F008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FD29-384E-4FF4-AD1E-A4A6685C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80A-3643-43B6-8A0F-45872FDB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249-FD4F-4177-B37A-3BC4587A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2810-D23E-45B1-B307-1B6C7652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1A80-1E3B-49B8-A3EB-A5DCDAD5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95DB-1239-427E-9135-EC100E4B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7D49-C4AA-406E-B368-F8EC5B62C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package" Target="../embeddings/oleObject2.xls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Point Sources </a:t>
            </a:r>
            <a:r>
              <a:rPr b="1" lang="es-ES" sz="4400" spc="-1" strike="noStrike" u="sng">
                <a:solidFill>
                  <a:srgbClr val="000000"/>
                </a:solidFill>
                <a:uFillTx/>
                <a:latin typeface="Arial"/>
              </a:rPr>
              <a:t>Progress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anagement Board Conference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ebruary 9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2" descr="MarylandCrown_800x345_Transparent"/>
          <p:cNvPicPr/>
          <p:nvPr/>
        </p:nvPicPr>
        <p:blipFill>
          <a:blip r:embed="rId1"/>
          <a:stretch/>
        </p:blipFill>
        <p:spPr>
          <a:xfrm>
            <a:off x="185760" y="185760"/>
            <a:ext cx="1782720" cy="77004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6"/>
          <p:cNvGrpSpPr/>
          <p:nvPr/>
        </p:nvGrpSpPr>
        <p:grpSpPr>
          <a:xfrm>
            <a:off x="0" y="1089000"/>
            <a:ext cx="9144000" cy="42840"/>
            <a:chOff x="0" y="1089000"/>
            <a:chExt cx="9144000" cy="42840"/>
          </a:xfrm>
        </p:grpSpPr>
        <p:sp>
          <p:nvSpPr>
            <p:cNvPr id="45" name="Line 7"/>
            <p:cNvSpPr/>
            <p:nvPr/>
          </p:nvSpPr>
          <p:spPr>
            <a:xfrm>
              <a:off x="0" y="1089000"/>
              <a:ext cx="9144000" cy="0"/>
            </a:xfrm>
            <a:prstGeom prst="line">
              <a:avLst/>
            </a:prstGeom>
            <a:ln w="889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8"/>
            <p:cNvSpPr/>
            <p:nvPr/>
          </p:nvSpPr>
          <p:spPr>
            <a:xfrm>
              <a:off x="0" y="1131840"/>
              <a:ext cx="9144000" cy="0"/>
            </a:xfrm>
            <a:prstGeom prst="line">
              <a:avLst/>
            </a:prstGeom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Picture 9" descr="MDE_156x200_Tranparent"/>
          <p:cNvPicPr/>
          <p:nvPr/>
        </p:nvPicPr>
        <p:blipFill>
          <a:blip r:embed="rId2"/>
          <a:stretch/>
        </p:blipFill>
        <p:spPr>
          <a:xfrm>
            <a:off x="8229600" y="5791320"/>
            <a:ext cx="5716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0" t="12604" r="0" b="0"/>
          <a:stretch/>
        </p:blipFill>
        <p:spPr>
          <a:xfrm>
            <a:off x="1143000" y="1295280"/>
            <a:ext cx="6400800" cy="317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143000" y="3505320"/>
          <a:ext cx="6524640" cy="2705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505320"/>
                    <a:ext cx="6524640" cy="27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1062000" y="228600"/>
            <a:ext cx="779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ipitation, WWTP Flows and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MDE_156x200_Tranparent"/>
          <p:cNvPicPr/>
          <p:nvPr/>
        </p:nvPicPr>
        <p:blipFill>
          <a:blip r:embed="rId4"/>
          <a:stretch/>
        </p:blipFill>
        <p:spPr>
          <a:xfrm>
            <a:off x="152280" y="152280"/>
            <a:ext cx="571680" cy="733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MarylandCrown_800x345_Transparent"/>
          <p:cNvPicPr/>
          <p:nvPr/>
        </p:nvPicPr>
        <p:blipFill>
          <a:blip r:embed="rId5"/>
          <a:stretch/>
        </p:blipFill>
        <p:spPr>
          <a:xfrm>
            <a:off x="7620120" y="5562720"/>
            <a:ext cx="1338120" cy="577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833840" y="5181480"/>
            <a:ext cx="151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TP Flow = 515 mg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TN Load = 14.94 M l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43400" y="5029200"/>
            <a:ext cx="152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TP Flow = 536 mg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TN Load 12.67 M l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401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cip = 37.43 i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878360" y="2743200"/>
            <a:ext cx="1398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cip = 37.62 i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89840" y="3886200"/>
            <a:ext cx="287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TP Annual Flows CY* 2000 -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00920" y="5029200"/>
            <a:ext cx="1515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TP Flow = 592 mg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TN Load 13.25 M l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981080"/>
            <a:ext cx="140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cip = 45.77 i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14600" y="50292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562720" y="487692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84440" y="1219320"/>
            <a:ext cx="419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yland Annual Average Precipitation CY* 2000 -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4800600"/>
            <a:ext cx="228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6172200"/>
            <a:ext cx="716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charts above were developed using calendar year data, and are presented with the purpose of showing the correlation between rainfall and WWTP flo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0920" y="3124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12408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72200" y="2438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7DE4-35DF-49F4-ACD5-2D215F18E8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533520" y="685800"/>
          <a:ext cx="5105160" cy="31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85800"/>
                    <a:ext cx="5105160" cy="31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533520" y="3276720"/>
          <a:ext cx="5110200" cy="3092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276720"/>
                    <a:ext cx="51102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5712840" y="914400"/>
            <a:ext cx="162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nual Flows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jor WWT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67280" y="3505320"/>
            <a:ext cx="3048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nual TN Load for Major WWT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gnificant reduction after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flecting ENR upgr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ad is reduced despite increase flows from hookups or growth, but progress is hidden by rainf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4" descr="MarylandCrown_800x345_Transparent"/>
          <p:cNvPicPr/>
          <p:nvPr/>
        </p:nvPicPr>
        <p:blipFill>
          <a:blip r:embed="rId5"/>
          <a:stretch/>
        </p:blipFill>
        <p:spPr>
          <a:xfrm>
            <a:off x="6934320" y="6019920"/>
            <a:ext cx="1338120" cy="577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MDE_156x200_Tranparent"/>
          <p:cNvPicPr/>
          <p:nvPr/>
        </p:nvPicPr>
        <p:blipFill>
          <a:blip r:embed="rId6"/>
          <a:stretch/>
        </p:blipFill>
        <p:spPr>
          <a:xfrm>
            <a:off x="152280" y="152280"/>
            <a:ext cx="571680" cy="7336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675080" y="152280"/>
            <a:ext cx="48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ows vs Loads – Major WW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952880"/>
            <a:ext cx="685800" cy="6098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3" idx="1"/>
            <a:endCxn id="157" idx="7"/>
          </p:cNvCxnSpPr>
          <p:nvPr/>
        </p:nvCxnSpPr>
        <p:spPr>
          <a:xfrm flipV="1" rot="10800000">
            <a:off x="5309640" y="4721040"/>
            <a:ext cx="557640" cy="321120"/>
          </a:xfrm>
          <a:prstGeom prst="curvedConnector2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798-D03D-40A8-8F2C-080B2D49B9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867280" y="3352680"/>
            <a:ext cx="29718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nual Flow Weigh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N Concent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end –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hen presentation is flow-weighted, the trend becomes ap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4" descr="MarylandCrown_800x345_Transparent"/>
          <p:cNvPicPr/>
          <p:nvPr/>
        </p:nvPicPr>
        <p:blipFill>
          <a:blip r:embed="rId1"/>
          <a:stretch/>
        </p:blipFill>
        <p:spPr>
          <a:xfrm>
            <a:off x="6934320" y="6019920"/>
            <a:ext cx="1338120" cy="577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939280" y="1295280"/>
            <a:ext cx="218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nual Flows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jor WWTPs Fac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MDE_156x200_Tranparent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33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41560" y="152280"/>
            <a:ext cx="665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ows vs TN Concentrations – Major WWT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09480" y="762120"/>
          <a:ext cx="5105520" cy="3195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762120"/>
                    <a:ext cx="5105520" cy="31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609480" y="3276720"/>
          <a:ext cx="5096160" cy="3246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3276720"/>
                    <a:ext cx="5096160" cy="32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1D2-1BC5-443A-BA68-E557F6E34D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4" descr="MarylandCrown_800x345_Transparent"/>
          <p:cNvPicPr/>
          <p:nvPr/>
        </p:nvPicPr>
        <p:blipFill>
          <a:blip r:embed="rId1"/>
          <a:stretch/>
        </p:blipFill>
        <p:spPr>
          <a:xfrm>
            <a:off x="6934320" y="6019920"/>
            <a:ext cx="1338120" cy="5778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MDE_156x200_Tranparent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33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39760" y="152280"/>
            <a:ext cx="680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lows vs TP Concentrations – Major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62120" y="685800"/>
          <a:ext cx="5100480" cy="319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685800"/>
                    <a:ext cx="510048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62120" y="3200400"/>
          <a:ext cx="5105160" cy="3251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200400"/>
                    <a:ext cx="5105160" cy="32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5939280" y="1371600"/>
            <a:ext cx="218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nual Flows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ajor WWTPs Fac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3809880"/>
            <a:ext cx="29718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nnual Flow Weigh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N Concent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end –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hen presentation is flow-weighted, the trend becomes ap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B83-75B9-492C-A893-7B1C6CCA6B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he 2009 Executive Council (EC) intended to measure progress of implementation (report “Practices in Plac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rrent indicator does not show Progress beca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t is confounded by rain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s inconsistent with NPS progress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ess reporting requires a consistent flow averaging period for both PS and N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f current indicator is retained, other indicators not confounded by rainfall are needed,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WWTP performance (Nutrient concen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rmalized or average flows for load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umber of facilities upgra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6"/>
          <p:cNvGrpSpPr/>
          <p:nvPr/>
        </p:nvGrpSpPr>
        <p:grpSpPr>
          <a:xfrm>
            <a:off x="0" y="1089000"/>
            <a:ext cx="9144000" cy="42840"/>
            <a:chOff x="0" y="1089000"/>
            <a:chExt cx="9144000" cy="42840"/>
          </a:xfrm>
        </p:grpSpPr>
        <p:sp>
          <p:nvSpPr>
            <p:cNvPr id="180" name="Line 7"/>
            <p:cNvSpPr/>
            <p:nvPr/>
          </p:nvSpPr>
          <p:spPr>
            <a:xfrm>
              <a:off x="0" y="1089000"/>
              <a:ext cx="9144000" cy="0"/>
            </a:xfrm>
            <a:prstGeom prst="line">
              <a:avLst/>
            </a:prstGeom>
            <a:ln w="889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8"/>
            <p:cNvSpPr/>
            <p:nvPr/>
          </p:nvSpPr>
          <p:spPr>
            <a:xfrm>
              <a:off x="0" y="1131840"/>
              <a:ext cx="9144000" cy="0"/>
            </a:xfrm>
            <a:prstGeom prst="line">
              <a:avLst/>
            </a:prstGeom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2" name="Picture 9" descr="MDE_156x200_Tranparent"/>
          <p:cNvPicPr/>
          <p:nvPr/>
        </p:nvPicPr>
        <p:blipFill>
          <a:blip r:embed="rId1"/>
          <a:stretch/>
        </p:blipFill>
        <p:spPr>
          <a:xfrm>
            <a:off x="152280" y="152280"/>
            <a:ext cx="571680" cy="733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MarylandCrown_800x345_Transparent"/>
          <p:cNvPicPr/>
          <p:nvPr/>
        </p:nvPicPr>
        <p:blipFill>
          <a:blip r:embed="rId2"/>
          <a:stretch/>
        </p:blipFill>
        <p:spPr>
          <a:xfrm>
            <a:off x="6858000" y="5943600"/>
            <a:ext cx="133812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2C1-74F1-4382-9D36-599CB0D3FC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trient Reductions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gr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Progress Report: The annual progress report should assess the success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orts from the preceding year’s actio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:  A valid indicator of progress must hold constant everything except the change that is being meas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s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oint source progress measure is not measuring implementation progress, it is measuring the combined influence of progress and fl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not accounting for WWTP flow, an understanding of progress is confou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6"/>
          <p:cNvGrpSpPr/>
          <p:nvPr/>
        </p:nvGrpSpPr>
        <p:grpSpPr>
          <a:xfrm>
            <a:off x="0" y="1089000"/>
            <a:ext cx="9144000" cy="42840"/>
            <a:chOff x="0" y="1089000"/>
            <a:chExt cx="9144000" cy="42840"/>
          </a:xfrm>
        </p:grpSpPr>
        <p:sp>
          <p:nvSpPr>
            <p:cNvPr id="51" name="Line 7"/>
            <p:cNvSpPr/>
            <p:nvPr/>
          </p:nvSpPr>
          <p:spPr>
            <a:xfrm>
              <a:off x="0" y="1089000"/>
              <a:ext cx="9144000" cy="0"/>
            </a:xfrm>
            <a:prstGeom prst="line">
              <a:avLst/>
            </a:prstGeom>
            <a:ln w="889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8"/>
            <p:cNvSpPr/>
            <p:nvPr/>
          </p:nvSpPr>
          <p:spPr>
            <a:xfrm>
              <a:off x="0" y="1131840"/>
              <a:ext cx="9144000" cy="0"/>
            </a:xfrm>
            <a:prstGeom prst="line">
              <a:avLst/>
            </a:prstGeom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9" descr="MDE_156x200_Tranparent"/>
          <p:cNvPicPr/>
          <p:nvPr/>
        </p:nvPicPr>
        <p:blipFill>
          <a:blip r:embed="rId1"/>
          <a:stretch/>
        </p:blipFill>
        <p:spPr>
          <a:xfrm>
            <a:off x="152280" y="152280"/>
            <a:ext cx="571680" cy="733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MarylandCrown_800x345_Transparent"/>
          <p:cNvPicPr/>
          <p:nvPr/>
        </p:nvPicPr>
        <p:blipFill>
          <a:blip r:embed="rId2"/>
          <a:stretch/>
        </p:blipFill>
        <p:spPr>
          <a:xfrm>
            <a:off x="7086600" y="6095880"/>
            <a:ext cx="1338120" cy="57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377A-E211-4F20-A4A7-F20ACF4A92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10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t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r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trient Loads Delivered to the B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43400" y="1676160"/>
            <a:ext cx="4495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s delivered to the Bay over past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uenced by precipi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isting indicator should be retained as the primary indicator, and as an indicator of sta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ExportedChart.jpg"/>
          <p:cNvPicPr/>
          <p:nvPr/>
        </p:nvPicPr>
        <p:blipFill>
          <a:blip r:embed="rId1"/>
          <a:stretch/>
        </p:blipFill>
        <p:spPr>
          <a:xfrm>
            <a:off x="76320" y="1447920"/>
            <a:ext cx="4114800" cy="41148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6"/>
          <p:cNvGrpSpPr/>
          <p:nvPr/>
        </p:nvGrpSpPr>
        <p:grpSpPr>
          <a:xfrm>
            <a:off x="0" y="1295280"/>
            <a:ext cx="9144000" cy="42840"/>
            <a:chOff x="0" y="1295280"/>
            <a:chExt cx="9144000" cy="42840"/>
          </a:xfrm>
        </p:grpSpPr>
        <p:sp>
          <p:nvSpPr>
            <p:cNvPr id="59" name="Line 7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889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>
              <a:off x="0" y="1338120"/>
              <a:ext cx="9144000" cy="0"/>
            </a:xfrm>
            <a:prstGeom prst="line">
              <a:avLst/>
            </a:prstGeom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9" descr="MDE_156x200_Tranparent"/>
          <p:cNvPicPr/>
          <p:nvPr/>
        </p:nvPicPr>
        <p:blipFill>
          <a:blip r:embed="rId2"/>
          <a:stretch/>
        </p:blipFill>
        <p:spPr>
          <a:xfrm>
            <a:off x="152280" y="228600"/>
            <a:ext cx="571680" cy="733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4" descr="MarylandCrown_800x345_Transparent"/>
          <p:cNvPicPr/>
          <p:nvPr/>
        </p:nvPicPr>
        <p:blipFill>
          <a:blip r:embed="rId3"/>
          <a:stretch/>
        </p:blipFill>
        <p:spPr>
          <a:xfrm>
            <a:off x="6781680" y="6172200"/>
            <a:ext cx="1338480" cy="577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flipV="1" rot="10800000">
            <a:off x="154080" y="5707800"/>
            <a:ext cx="5186160" cy="1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8440" rIns="28440" tIns="27000" bIns="648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Arial"/>
              </a:rPr>
              <a:t>Chart Source: EPA Chesapeake Bay Progra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ExportedChart.jpg"/>
          <p:cNvPicPr/>
          <p:nvPr/>
        </p:nvPicPr>
        <p:blipFill>
          <a:blip r:embed="rId4"/>
          <a:srcRect l="18520" t="75931" r="9260" b="1852"/>
          <a:stretch/>
        </p:blipFill>
        <p:spPr>
          <a:xfrm>
            <a:off x="3429000" y="4567320"/>
            <a:ext cx="5715000" cy="175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69C-1BBB-4F63-B9F8-3E56C67D59C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gr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rting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sistent approach for point and nonpoint source indic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A reports non-point source nutrient reductions progress based on the watershed model that uses a 10 year hydrologic averaging period that is applied to the most recent implementation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pproach reduces the influence of annual variation in flow and provides a better indication of “on the ground” prog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6"/>
          <p:cNvGrpSpPr/>
          <p:nvPr/>
        </p:nvGrpSpPr>
        <p:grpSpPr>
          <a:xfrm>
            <a:off x="0" y="1219320"/>
            <a:ext cx="9144000" cy="42840"/>
            <a:chOff x="0" y="1219320"/>
            <a:chExt cx="9144000" cy="42840"/>
          </a:xfrm>
        </p:grpSpPr>
        <p:sp>
          <p:nvSpPr>
            <p:cNvPr id="68" name="Line 7"/>
            <p:cNvSpPr/>
            <p:nvPr/>
          </p:nvSpPr>
          <p:spPr>
            <a:xfrm>
              <a:off x="0" y="1219320"/>
              <a:ext cx="9144000" cy="0"/>
            </a:xfrm>
            <a:prstGeom prst="line">
              <a:avLst/>
            </a:prstGeom>
            <a:ln w="889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0" y="1262160"/>
              <a:ext cx="9144000" cy="0"/>
            </a:xfrm>
            <a:prstGeom prst="line">
              <a:avLst/>
            </a:prstGeom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9" descr="MDE_156x200_Tranparent"/>
          <p:cNvPicPr/>
          <p:nvPr/>
        </p:nvPicPr>
        <p:blipFill>
          <a:blip r:embed="rId1"/>
          <a:stretch/>
        </p:blipFill>
        <p:spPr>
          <a:xfrm>
            <a:off x="152280" y="304920"/>
            <a:ext cx="571680" cy="733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MarylandCrown_800x345_Transparent"/>
          <p:cNvPicPr/>
          <p:nvPr/>
        </p:nvPicPr>
        <p:blipFill>
          <a:blip r:embed="rId2"/>
          <a:stretch/>
        </p:blipFill>
        <p:spPr>
          <a:xfrm>
            <a:off x="7162920" y="6095880"/>
            <a:ext cx="1338120" cy="57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A4CE-4C08-4C67-9680-69DA325F3A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gr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porting Approach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int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A reports point source progress based on most recent year information from Discharge Monitoring Reports (DM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s vary with precipitation due to infiltration and inflow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&amp; 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nto the collec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is, the current progress indicator is confounded by flow changes caused by precipitation that varies annually, thus masking reductions (or increases) in effluent concent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not an accurate progress report for decision makers or the publ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6"/>
          <p:cNvGrpSpPr/>
          <p:nvPr/>
        </p:nvGrpSpPr>
        <p:grpSpPr>
          <a:xfrm>
            <a:off x="0" y="1251000"/>
            <a:ext cx="9144000" cy="42840"/>
            <a:chOff x="0" y="1251000"/>
            <a:chExt cx="9144000" cy="42840"/>
          </a:xfrm>
        </p:grpSpPr>
        <p:sp>
          <p:nvSpPr>
            <p:cNvPr id="75" name="Line 7"/>
            <p:cNvSpPr/>
            <p:nvPr/>
          </p:nvSpPr>
          <p:spPr>
            <a:xfrm>
              <a:off x="0" y="1251000"/>
              <a:ext cx="9144000" cy="0"/>
            </a:xfrm>
            <a:prstGeom prst="line">
              <a:avLst/>
            </a:prstGeom>
            <a:ln w="889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0" y="1293840"/>
              <a:ext cx="9144000" cy="0"/>
            </a:xfrm>
            <a:prstGeom prst="line">
              <a:avLst/>
            </a:prstGeom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9" descr="MDE_156x200_Tranparent"/>
          <p:cNvPicPr/>
          <p:nvPr/>
        </p:nvPicPr>
        <p:blipFill>
          <a:blip r:embed="rId1"/>
          <a:stretch/>
        </p:blipFill>
        <p:spPr>
          <a:xfrm>
            <a:off x="152280" y="336600"/>
            <a:ext cx="571680" cy="733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MarylandCrown_800x345_Transparent"/>
          <p:cNvPicPr/>
          <p:nvPr/>
        </p:nvPicPr>
        <p:blipFill>
          <a:blip r:embed="rId2"/>
          <a:stretch/>
        </p:blipFill>
        <p:spPr>
          <a:xfrm>
            <a:off x="7162920" y="6019920"/>
            <a:ext cx="1338120" cy="577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280" y="6248520"/>
            <a:ext cx="8382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5AF-71B8-4F0F-9B2D-B0DB2C0541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int Sources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rogres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Issues/Concer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ow to make PS and NP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parabl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in Progress Scenarios, Milestones, Bay Barom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luence of annual variation in precipitation or any other confounding facto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 be remo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bo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ollow up with 2009 Executive Council decision to report “Practices in Plac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6"/>
          <p:cNvGrpSpPr/>
          <p:nvPr/>
        </p:nvGrpSpPr>
        <p:grpSpPr>
          <a:xfrm>
            <a:off x="0" y="1143000"/>
            <a:ext cx="9144000" cy="42840"/>
            <a:chOff x="0" y="1143000"/>
            <a:chExt cx="9144000" cy="42840"/>
          </a:xfrm>
        </p:grpSpPr>
        <p:sp>
          <p:nvSpPr>
            <p:cNvPr id="83" name="Line 7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889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8"/>
            <p:cNvSpPr/>
            <p:nvPr/>
          </p:nvSpPr>
          <p:spPr>
            <a:xfrm>
              <a:off x="0" y="1185840"/>
              <a:ext cx="9144000" cy="0"/>
            </a:xfrm>
            <a:prstGeom prst="line">
              <a:avLst/>
            </a:prstGeom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9" descr="MDE_156x200_Tranparent"/>
          <p:cNvPicPr/>
          <p:nvPr/>
        </p:nvPicPr>
        <p:blipFill>
          <a:blip r:embed="rId1"/>
          <a:stretch/>
        </p:blipFill>
        <p:spPr>
          <a:xfrm>
            <a:off x="152280" y="152280"/>
            <a:ext cx="571680" cy="73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MarylandCrown_800x345_Transparent"/>
          <p:cNvPicPr/>
          <p:nvPr/>
        </p:nvPicPr>
        <p:blipFill>
          <a:blip r:embed="rId2"/>
          <a:stretch/>
        </p:blipFill>
        <p:spPr>
          <a:xfrm>
            <a:off x="7086600" y="6095880"/>
            <a:ext cx="133812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EDE-0336-4F44-ADD6-C08F9B14BB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int Sources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rogress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Repor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tions Requeste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ide feedback on proposed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upplemental indicato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for PS progress reports (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e.g.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nutrients concentrations, # of upgraded facilit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vide feedback on methodology to estimate PS loads for Progress reports; dec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flow averaging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epare to present issue to PSC if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0" y="1295280"/>
            <a:ext cx="9144000" cy="42840"/>
            <a:chOff x="0" y="1295280"/>
            <a:chExt cx="9144000" cy="42840"/>
          </a:xfrm>
        </p:grpSpPr>
        <p:sp>
          <p:nvSpPr>
            <p:cNvPr id="90" name="Line 7"/>
            <p:cNvSpPr/>
            <p:nvPr/>
          </p:nvSpPr>
          <p:spPr>
            <a:xfrm>
              <a:off x="0" y="1295280"/>
              <a:ext cx="9144000" cy="0"/>
            </a:xfrm>
            <a:prstGeom prst="line">
              <a:avLst/>
            </a:prstGeom>
            <a:ln w="889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8"/>
            <p:cNvSpPr/>
            <p:nvPr/>
          </p:nvSpPr>
          <p:spPr>
            <a:xfrm>
              <a:off x="0" y="1338120"/>
              <a:ext cx="9144000" cy="0"/>
            </a:xfrm>
            <a:prstGeom prst="line">
              <a:avLst/>
            </a:prstGeom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9" descr="MDE_156x200_Tranparent"/>
          <p:cNvPicPr/>
          <p:nvPr/>
        </p:nvPicPr>
        <p:blipFill>
          <a:blip r:embed="rId1"/>
          <a:stretch/>
        </p:blipFill>
        <p:spPr>
          <a:xfrm>
            <a:off x="304920" y="304920"/>
            <a:ext cx="571320" cy="733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MarylandCrown_800x345_Transparent"/>
          <p:cNvPicPr/>
          <p:nvPr/>
        </p:nvPicPr>
        <p:blipFill>
          <a:blip r:embed="rId2"/>
          <a:stretch/>
        </p:blipFill>
        <p:spPr>
          <a:xfrm>
            <a:off x="6858000" y="6095880"/>
            <a:ext cx="1338120" cy="5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2F4-040A-4F1F-AECF-2347BD912B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MP900382802[1]" descr=""/>
          <p:cNvPicPr/>
          <p:nvPr/>
        </p:nvPicPr>
        <p:blipFill>
          <a:blip r:embed="rId1"/>
          <a:stretch/>
        </p:blipFill>
        <p:spPr>
          <a:xfrm>
            <a:off x="7086600" y="2209680"/>
            <a:ext cx="1266840" cy="905040"/>
          </a:xfrm>
          <a:prstGeom prst="rect">
            <a:avLst/>
          </a:prstGeom>
          <a:ln w="0">
            <a:noFill/>
          </a:ln>
        </p:spPr>
      </p:pic>
      <p:pic>
        <p:nvPicPr>
          <p:cNvPr id="95" name="MP900407129[1]" descr=""/>
          <p:cNvPicPr/>
          <p:nvPr/>
        </p:nvPicPr>
        <p:blipFill>
          <a:blip r:embed="rId2"/>
          <a:srcRect l="2250" t="0" r="1125" b="0"/>
          <a:stretch/>
        </p:blipFill>
        <p:spPr>
          <a:xfrm>
            <a:off x="7010280" y="5029200"/>
            <a:ext cx="1266840" cy="876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62120" y="228600"/>
            <a:ext cx="784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ample of Flow used in Current Progress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re we comparing Apples and Oran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20720" y="1143000"/>
            <a:ext cx="6365880" cy="2819160"/>
            <a:chOff x="720720" y="1143000"/>
            <a:chExt cx="6365880" cy="2819160"/>
          </a:xfrm>
        </p:grpSpPr>
        <p:graphicFrame>
          <p:nvGraphicFramePr>
            <p:cNvPr id="98" name=""/>
            <p:cNvGraphicFramePr/>
            <p:nvPr/>
          </p:nvGraphicFramePr>
          <p:xfrm>
            <a:off x="720720" y="1143000"/>
            <a:ext cx="6365880" cy="28191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20720" y="1143000"/>
                      <a:ext cx="6365880" cy="281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1482840" y="2593080"/>
              <a:ext cx="4900320" cy="460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666880" y="365760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N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veraging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63400" y="4572000"/>
            <a:ext cx="1649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av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Point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MDE_156x200_Tranparent"/>
          <p:cNvPicPr/>
          <p:nvPr/>
        </p:nvPicPr>
        <p:blipFill>
          <a:blip r:embed="rId5"/>
          <a:stretch/>
        </p:blipFill>
        <p:spPr>
          <a:xfrm>
            <a:off x="152280" y="152280"/>
            <a:ext cx="571680" cy="7336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MarylandCrown_800x345_Transparent"/>
          <p:cNvPicPr/>
          <p:nvPr/>
        </p:nvPicPr>
        <p:blipFill>
          <a:blip r:embed="rId6"/>
          <a:stretch/>
        </p:blipFill>
        <p:spPr>
          <a:xfrm>
            <a:off x="6934320" y="6095880"/>
            <a:ext cx="1338120" cy="57780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6"/>
          <p:cNvGrpSpPr/>
          <p:nvPr/>
        </p:nvGrpSpPr>
        <p:grpSpPr>
          <a:xfrm>
            <a:off x="0" y="1143000"/>
            <a:ext cx="9144000" cy="42840"/>
            <a:chOff x="0" y="1143000"/>
            <a:chExt cx="9144000" cy="42840"/>
          </a:xfrm>
        </p:grpSpPr>
        <p:sp>
          <p:nvSpPr>
            <p:cNvPr id="106" name="Line 7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889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8"/>
            <p:cNvSpPr/>
            <p:nvPr/>
          </p:nvSpPr>
          <p:spPr>
            <a:xfrm>
              <a:off x="0" y="1185840"/>
              <a:ext cx="9144000" cy="0"/>
            </a:xfrm>
            <a:prstGeom prst="line">
              <a:avLst/>
            </a:prstGeom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9480" y="3962520"/>
            <a:ext cx="6095880" cy="2818800"/>
            <a:chOff x="609480" y="3962520"/>
            <a:chExt cx="6095880" cy="2818800"/>
          </a:xfrm>
        </p:grpSpPr>
        <p:grpSp>
          <p:nvGrpSpPr>
            <p:cNvPr id="109" name=""/>
            <p:cNvGrpSpPr/>
            <p:nvPr/>
          </p:nvGrpSpPr>
          <p:grpSpPr>
            <a:xfrm>
              <a:off x="609480" y="3962520"/>
              <a:ext cx="6095880" cy="2818800"/>
              <a:chOff x="609480" y="3962520"/>
              <a:chExt cx="6095880" cy="2818800"/>
            </a:xfrm>
          </p:grpSpPr>
          <p:graphicFrame>
            <p:nvGraphicFramePr>
              <p:cNvPr id="110" name=""/>
              <p:cNvGraphicFramePr/>
              <p:nvPr/>
            </p:nvGraphicFramePr>
            <p:xfrm>
              <a:off x="609480" y="3962520"/>
              <a:ext cx="6095880" cy="2818800"/>
            </p:xfrm>
            <a:graphic>
              <a:graphicData uri="http://schemas.openxmlformats.org/presentationml/2006/ole">
                <p:oleObj progId="Excel.Sheet.12" r:id="rId7" spid="">
                  <p:embed/>
                  <p:pic>
                    <p:nvPicPr>
                      <p:cNvPr id="111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09480" y="3962520"/>
                        <a:ext cx="6095880" cy="2818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12" name=""/>
              <p:cNvSpPr/>
              <p:nvPr/>
            </p:nvSpPr>
            <p:spPr>
              <a:xfrm>
                <a:off x="6095880" y="5283720"/>
                <a:ext cx="380880" cy="4406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2361960" y="4114800"/>
              <a:ext cx="2514600" cy="86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Point Sourc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Arial"/>
                </a:rPr>
                <a:t>CY2000-2010 Flow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 rot="16200000">
            <a:off x="3695760" y="1104480"/>
            <a:ext cx="228600" cy="4876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7080 h 4876920"/>
              <a:gd name="textAreaBottom" fmla="*/ 4749840 h 487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1" idx="3"/>
            <a:endCxn id="116" idx="1"/>
          </p:cNvCxnSpPr>
          <p:nvPr/>
        </p:nvCxnSpPr>
        <p:spPr>
          <a:xfrm flipV="1">
            <a:off x="5394240" y="3428640"/>
            <a:ext cx="1388160" cy="427680"/>
          </a:xfrm>
          <a:prstGeom prst="curvedConnector5">
            <a:avLst>
              <a:gd name="adj1" fmla="val 49987"/>
              <a:gd name="adj2" fmla="val 49957"/>
              <a:gd name="adj3" fmla="val 49987"/>
            </a:avLst>
          </a:prstGeom>
          <a:ln w="9360">
            <a:solidFill>
              <a:srgbClr val="0000ff"/>
            </a:solidFill>
            <a:miter/>
            <a:tailEnd len="med" type="stealth" w="med"/>
          </a:ln>
        </p:spPr>
      </p:cxnSp>
      <p:sp>
        <p:nvSpPr>
          <p:cNvPr id="116" name=""/>
          <p:cNvSpPr/>
          <p:nvPr/>
        </p:nvSpPr>
        <p:spPr>
          <a:xfrm>
            <a:off x="6786360" y="3276720"/>
            <a:ext cx="19562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av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Nonpoint 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5400000">
            <a:off x="6172200" y="4647960"/>
            <a:ext cx="152280" cy="457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32160" y="4191120"/>
            <a:ext cx="203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verera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02" idx="0"/>
          </p:cNvCxnSpPr>
          <p:nvPr/>
        </p:nvCxnSpPr>
        <p:spPr>
          <a:xfrm flipV="1">
            <a:off x="6629040" y="4572000"/>
            <a:ext cx="1059480" cy="76680"/>
          </a:xfrm>
          <a:prstGeom prst="curvedConnector5">
            <a:avLst>
              <a:gd name="adj1" fmla="val 24405"/>
              <a:gd name="adj2" fmla="val 140094"/>
              <a:gd name="adj3" fmla="val 24405"/>
            </a:avLst>
          </a:prstGeom>
          <a:ln w="9360">
            <a:solidFill>
              <a:srgbClr val="339966"/>
            </a:solidFill>
            <a:miter/>
            <a:tailEnd len="med" type="stealth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5F3D-7C00-4226-B2DA-E0968E7738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ecipitation and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re are two signals from fl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ndom noise” from natural variation in precip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 increasing trend from grow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noise should be factored out to clarify prog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he increase due to growth is an important factor that should be made appa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ad differences in similar flow years can be attributable to growth and are consistent with estimates of population growth and EDUs from the Maryland Department of Plann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wever, TN Load decreased reflecting WWTP upgrades and showing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rogres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 wet years, thi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Progres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s masked by rainf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MDE_156x200_Tranparent"/>
          <p:cNvPicPr/>
          <p:nvPr/>
        </p:nvPicPr>
        <p:blipFill>
          <a:blip r:embed="rId1"/>
          <a:stretch/>
        </p:blipFill>
        <p:spPr>
          <a:xfrm>
            <a:off x="152280" y="152280"/>
            <a:ext cx="571680" cy="733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MarylandCrown_800x345_Transparent"/>
          <p:cNvPicPr/>
          <p:nvPr/>
        </p:nvPicPr>
        <p:blipFill>
          <a:blip r:embed="rId2"/>
          <a:stretch/>
        </p:blipFill>
        <p:spPr>
          <a:xfrm>
            <a:off x="6934320" y="6095880"/>
            <a:ext cx="1338120" cy="57780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6"/>
          <p:cNvGrpSpPr/>
          <p:nvPr/>
        </p:nvGrpSpPr>
        <p:grpSpPr>
          <a:xfrm>
            <a:off x="0" y="1143000"/>
            <a:ext cx="9144000" cy="42840"/>
            <a:chOff x="0" y="1143000"/>
            <a:chExt cx="9144000" cy="42840"/>
          </a:xfrm>
        </p:grpSpPr>
        <p:sp>
          <p:nvSpPr>
            <p:cNvPr id="125" name="Line 7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8892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"/>
            <p:cNvSpPr/>
            <p:nvPr/>
          </p:nvSpPr>
          <p:spPr>
            <a:xfrm>
              <a:off x="0" y="1185840"/>
              <a:ext cx="9144000" cy="0"/>
            </a:xfrm>
            <a:prstGeom prst="line">
              <a:avLst/>
            </a:prstGeom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3B27-0710-4AA6-8BA1-08C518BD7FD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21:33:52Z</dcterms:created>
  <dc:creator>Dinorah Dalmasy</dc:creator>
  <dc:description/>
  <dc:language>en-US</dc:language>
  <cp:lastModifiedBy>Rich</cp:lastModifiedBy>
  <dcterms:modified xsi:type="dcterms:W3CDTF">2012-02-06T15:05:15Z</dcterms:modified>
  <cp:revision>210</cp:revision>
  <dc:subject/>
  <dc:title>Slide 1</dc:title>
</cp:coreProperties>
</file>