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4193-4DA4-445D-A750-A15E963B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9EC-E4D9-4A06-9B90-4FDC4C8B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71C-A4C0-4131-976D-57BB029E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2DC5-A0BD-412D-9EBD-9614D675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CB7F-1833-4ED7-B610-C364DE4F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B433-F4BA-4F8B-B511-DB7EFBE2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90B-C546-4B53-B213-FFBE27A5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8CE5-B494-483C-953F-E5EC7C9A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53D4-DFC5-4569-9B89-C8396255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E04-FBF5-448F-A940-02631760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1684-A515-49BF-BCB7-E22F9269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2E4-F039-4A39-A4E0-42B1022F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6720-060D-4924-AB1F-ECFDCBA9A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cus on release of info and data in timely, relevant,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ongoing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fashion (based on audienc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reate communications tools and strategies that reflect what’s driving CB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oved public recognition for CBP partnership’s work and expert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roved clarity / differentiation of public vs. partner produ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80880" y="380880"/>
          <a:ext cx="8458200" cy="5738760"/>
        </p:xfrm>
        <a:graphic>
          <a:graphicData uri="http://schemas.openxmlformats.org/drawingml/2006/table">
            <a:tbl>
              <a:tblPr/>
              <a:tblGrid>
                <a:gridCol w="2921040"/>
                <a:gridCol w="451080"/>
                <a:gridCol w="460080"/>
                <a:gridCol w="476280"/>
                <a:gridCol w="446040"/>
                <a:gridCol w="503280"/>
                <a:gridCol w="462240"/>
                <a:gridCol w="390240"/>
                <a:gridCol w="489240"/>
                <a:gridCol w="475920"/>
                <a:gridCol w="432000"/>
                <a:gridCol w="476280"/>
                <a:gridCol w="474480"/>
              </a:tblGrid>
              <a:tr h="393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57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 gridSpan="1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AUD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 News Cyc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Dec Calend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</a:tr>
              <a:tr h="51732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udes press releases, online news, videos, blogs, photo journals, press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</a:tr>
              <a:tr h="328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ap up / 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</a:tr>
              <a:tr h="46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gridSpan="1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 STAKEHOLDERS / POLITICAL / INTERNAL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95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 Repo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- May Calend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8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8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Repo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CES Report C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ver report c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4:36:51Z</dcterms:created>
  <dc:creator>menloe</dc:creator>
  <dc:description/>
  <dc:language>en-US</dc:language>
  <cp:lastModifiedBy>CBPStaff</cp:lastModifiedBy>
  <dcterms:modified xsi:type="dcterms:W3CDTF">2012-01-04T15:27:51Z</dcterms:modified>
  <cp:revision>2</cp:revision>
  <dc:subject/>
  <dc:title>Slide 1</dc:title>
</cp:coreProperties>
</file>