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639E-EEEF-46F1-8810-CC7A54DF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taken from MD Milestone factsheet developed in 200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B1A0-F97B-4FDF-B7A0-479110046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math to calculate the projected loads needed each year assuming a straight line from 2009 to 2017 and 2025.  Calculation provided by Nita Sylve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444E-27FE-4E0C-BB17-93325FAD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rpt taken from the factsheets used to present to the 2011 EC, for demonstration purpose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9BEC-3BF3-414A-875D-A2196E12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1B7-6C76-4C4B-BC1D-FE552187F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C131-6A0F-44BF-9FB3-F1BA64014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D59C-C66F-4B79-BE6C-041EA6E4F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83F0-EA20-4032-9227-3CDB58609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891E-5043-4A13-A972-C9180FD15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A4A-2235-4B99-9BCF-E032629F16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E4F-F4DB-4E1C-885E-1D149EAA2A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FA6-0DC6-44D4-A451-7BABE84C48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096-C672-4653-9AC0-BC20E85608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DE5-A0AC-4763-8708-1F08B50C71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41C-A604-4C86-B2B3-6F7219D160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75E-8C28-436C-8CA9-93D180621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0C4A-3F49-4007-ABD0-B480DF300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D53-9CE3-424D-8FCD-787935596A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1A5-6529-46E3-8911-59912F7D6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5CE-303E-476B-A8AF-B3C8974584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718-A365-4278-9B4C-FA22389E1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8AD-C819-49A9-9091-DA76936538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3858-A9D8-4692-9FD9-B9D7CAB9B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1910-8537-4F91-A34E-3D88BE249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454A-345A-47AE-A482-DB984D7FF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B552-5BF9-4239-843F-26244B70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0AC7-9218-49EE-A364-8F7B41B6F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64F4-9B7E-4ABB-AAD0-17F67016D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9E7D-3929-4033-90AB-F4EEF02BE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states"/>
          <p:cNvPicPr/>
          <p:nvPr/>
        </p:nvPicPr>
        <p:blipFill>
          <a:blip r:embed="rId2"/>
          <a:srcRect l="3275" t="4233" r="51997" b="18471"/>
          <a:stretch/>
        </p:blipFill>
        <p:spPr>
          <a:xfrm>
            <a:off x="4572000" y="76212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5B44-FE18-4772-82C2-10B9F021339B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states"/>
          <p:cNvPicPr/>
          <p:nvPr/>
        </p:nvPicPr>
        <p:blipFill>
          <a:blip r:embed="rId2"/>
          <a:srcRect l="3275" t="4233" r="51997" b="18471"/>
          <a:stretch/>
        </p:blipFill>
        <p:spPr>
          <a:xfrm>
            <a:off x="4572000" y="76212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3"/>
          <p:cNvSpPr/>
          <p:nvPr/>
        </p:nvSpPr>
        <p:spPr>
          <a:xfrm>
            <a:off x="229320" y="6537240"/>
            <a:ext cx="26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-decisional – not for release under FO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857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4B18-9E70-45E9-A21F-A897CF0BB154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304920" y="457200"/>
            <a:ext cx="8381880" cy="5562720"/>
          </a:xfrm>
          <a:prstGeom prst="rect">
            <a:avLst/>
          </a:prstGeom>
          <a:blipFill rotWithShape="0">
            <a:blip r:embed="rId1">
              <a:alphaModFix amt="19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BA38-DFBD-422B-9E2B-82F1CD97E1F8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72200" y="601992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5086"/>
                </a:solidFill>
                <a:latin typeface="Arial"/>
              </a:rPr>
              <a:t>Chesapeake Bay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5086"/>
                </a:solidFill>
                <a:latin typeface="Arial"/>
              </a:rPr>
              <a:t>Management Board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5086"/>
                </a:solidFill>
                <a:latin typeface="Arial"/>
              </a:rPr>
              <a:t>March 6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8458200" y="64771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4038480" y="2297160"/>
            <a:ext cx="441972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5086"/>
                </a:solidFill>
                <a:latin typeface="Arial"/>
              </a:rPr>
              <a:t>Discussion for the</a:t>
            </a:r>
            <a:br>
              <a:rPr sz="3200"/>
            </a:br>
            <a:r>
              <a:rPr b="1" lang="en-US" sz="3200" spc="-1" strike="noStrike">
                <a:solidFill>
                  <a:srgbClr val="505086"/>
                </a:solidFill>
                <a:latin typeface="Arial"/>
              </a:rPr>
              <a:t>Final Evaluation of</a:t>
            </a:r>
            <a:br>
              <a:rPr sz="3200"/>
            </a:br>
            <a:r>
              <a:rPr b="1" lang="en-US" sz="3200" spc="-1" strike="noStrike">
                <a:solidFill>
                  <a:srgbClr val="505086"/>
                </a:solidFill>
                <a:latin typeface="Arial"/>
              </a:rPr>
              <a:t>2009-2011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12444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1586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AE4F-5320-401C-8ADA-B8563E17C9FF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 8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950760"/>
          </a:xfrm>
          <a:prstGeom prst="rect">
            <a:avLst/>
          </a:prstGeom>
          <a:ln w="0">
            <a:noFill/>
          </a:ln>
        </p:spPr>
      </p:pic>
      <p:pic>
        <p:nvPicPr>
          <p:cNvPr id="148" name="Text Box 8" descr=""/>
          <p:cNvPicPr/>
          <p:nvPr/>
        </p:nvPicPr>
        <p:blipFill>
          <a:blip r:embed="rId2"/>
          <a:stretch/>
        </p:blipFill>
        <p:spPr>
          <a:xfrm>
            <a:off x="42840" y="-122400"/>
            <a:ext cx="8424720" cy="11034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8580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Options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ption 1:  Percent reduction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398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ption 2:  Straight Line Projection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Option 3:  Individual qualitative self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2F54-2847-430D-B357-EAFFBBECD523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838080" y="1447920"/>
            <a:ext cx="76201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alculate % reduction committed to between 2008 and the 2011 milestone in the original milestone commitments announced by EC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alculate % reduction achieved between 2008 and 2011 under 5.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ompare the % reduction from 2008 to 2011 in 5.3.2 vs. the original commitment and repo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C whether jurisdictions achieved the original % reduction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llow jurisdictions to provide narrative for supplement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Text Box 8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9107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762120" y="57150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Compare actual 2011 progress run percent reduction to the projected percent reduction levels from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40080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Text Box 8" descr=""/>
          <p:cNvPicPr/>
          <p:nvPr/>
        </p:nvPicPr>
        <p:blipFill>
          <a:blip r:embed="rId2"/>
          <a:stretch/>
        </p:blipFill>
        <p:spPr>
          <a:xfrm>
            <a:off x="42840" y="115920"/>
            <a:ext cx="9107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B98F-17DF-4625-A869-575023A6ECA7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990720" y="16765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ompare the 2011 progress run loads in 5.3.2 to the straight line projection data of reductions from 2009 to 2017 that were distributed to the Milestone Workgroup on 10/11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3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Report to EC whether the jurisdiction is meeting the calculated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3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llow jurisdictions to provide narrative for supplement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Text Box 8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91076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35992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3"/>
          <p:cNvSpPr/>
          <p:nvPr/>
        </p:nvSpPr>
        <p:spPr>
          <a:xfrm>
            <a:off x="853452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3811-2971-479C-B3A6-080E8CD56CF2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06360" y="19810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ight Line Projec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380880" y="556272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Use Model Phase 5.3.2 to calculate 2011 nitrogen loads based on the 2011 progress data submitted to EPA by jurisdictions on 12/31/11 and compare to the loads in this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Text Box 8" descr=""/>
          <p:cNvPicPr/>
          <p:nvPr/>
        </p:nvPicPr>
        <p:blipFill>
          <a:blip r:embed="rId2"/>
          <a:stretch/>
        </p:blipFill>
        <p:spPr>
          <a:xfrm>
            <a:off x="42840" y="115920"/>
            <a:ext cx="9107640" cy="1195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11400" y="1219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929D-3672-4C40-B66F-7F7D98F6CA60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219320" y="1981080"/>
            <a:ext cx="6553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Report out on individual practices from their 2009 milestone factsheet and provide a percent completion based on practice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tus evaluation is subjective, i.e. on track, ahead/behi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llow jurisdictions to provide narrative for supplement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 Box 8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72788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Provide the BMP implementation level commitment and the percentage of that goal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8534520" y="63374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2E15-9E63-42B2-B27B-70FECD550DCF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2057400"/>
          <a:ext cx="7772400" cy="3301920"/>
        </p:xfrm>
        <a:graphic>
          <a:graphicData uri="http://schemas.openxmlformats.org/drawingml/2006/table">
            <a:tbl>
              <a:tblPr/>
              <a:tblGrid>
                <a:gridCol w="5437440"/>
                <a:gridCol w="1098360"/>
                <a:gridCol w="1236600"/>
              </a:tblGrid>
              <a:tr h="5256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-2011 Commit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Achieved (7/1/08- 6/30/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 gridSpan="3"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icultu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imal Waste Mgmt. Systems, livestock and poultry (structur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imal Waste Mgmt. Systems, runoff control (system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rvation Plans/SCWQP (acr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7,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ver Crop Planting (acres/y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,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iry &amp; Poultry Manure Incorporation Technology (acr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st Buffers (acr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ss Buffers (acr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 Control Structures (structur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tland Restoration (acr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Text Box 8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7278840" cy="11952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311400" y="1219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38D9-CF1E-4DC1-B8FD-2EC15571C039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oup 8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69200" cy="950760"/>
          </a:xfrm>
          <a:prstGeom prst="rect">
            <a:avLst/>
          </a:prstGeom>
          <a:ln w="0">
            <a:noFill/>
          </a:ln>
        </p:spPr>
      </p:pic>
      <p:pic>
        <p:nvPicPr>
          <p:cNvPr id="188" name="Text Box 8" descr=""/>
          <p:cNvPicPr/>
          <p:nvPr/>
        </p:nvPicPr>
        <p:blipFill>
          <a:blip r:embed="rId2"/>
          <a:stretch/>
        </p:blipFill>
        <p:spPr>
          <a:xfrm>
            <a:off x="42840" y="103320"/>
            <a:ext cx="8424720" cy="707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53352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alibri"/>
              </a:rPr>
              <a:t>Option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Option 1</a:t>
            </a: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:  Percent reduction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Direct comparison between milestone commitments an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Comparing percentages, based on modeled 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224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Option 2:</a:t>
            </a: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  Straight Line Projection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Jurisdictions did not know TMDL allocations when creating 2009-2011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Compare model results to a straight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Option 3:</a:t>
            </a: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  Individual qualitative self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Does not meet charge of 2009 o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No straight-forward process to account for a shift i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Additional Option sugg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FDCF-DE47-4622-A103-9F2A56D9D06C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990720" y="251460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ublic Persp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oose Clean Water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95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"/>
          <p:cNvSpPr/>
          <p:nvPr/>
        </p:nvSpPr>
        <p:spPr>
          <a:xfrm>
            <a:off x="152280" y="152280"/>
            <a:ext cx="899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EA41-D270-47A3-8430-4404630B5644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03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152280" y="152280"/>
            <a:ext cx="899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1219320" y="2209680"/>
            <a:ext cx="6553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nagement Board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cision Requested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agement Board agreement on schedule and process  for recommendation to P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96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8"/>
          <p:cNvSpPr/>
          <p:nvPr/>
        </p:nvSpPr>
        <p:spPr>
          <a:xfrm>
            <a:off x="3276720" y="1922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alibri"/>
                <a:ea typeface="ＭＳ Ｐゴシック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0"/>
          <p:cNvSpPr/>
          <p:nvPr/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602-1C55-4288-81F1-1A6B055AB5B8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tent Placeholder 2"/>
          <p:cNvSpPr/>
          <p:nvPr/>
        </p:nvSpPr>
        <p:spPr>
          <a:xfrm>
            <a:off x="1371600" y="137160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istor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Jeff Corbin, EP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 and Water Quality Goal Team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Russ Baxter, Water Quality Milestone Work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ublic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Hilary Falk/Beth McGee, Choose Clean Water Coal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scussion and Recommendation for P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76EE-F2AE-4244-9C50-5FD7368DE3DA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03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Text Box 8" descr=""/>
          <p:cNvPicPr/>
          <p:nvPr/>
        </p:nvPicPr>
        <p:blipFill>
          <a:blip r:embed="rId1"/>
          <a:stretch/>
        </p:blipFill>
        <p:spPr>
          <a:xfrm>
            <a:off x="12600" y="103320"/>
            <a:ext cx="7309080" cy="780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45720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Governor Kaine committed the partnership, 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t the May 2009 EC meeting,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1) Adopt a set of 2-year milestones;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2) Propose a new Bay cleanup dead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Guiding Principal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While milestones for each jurisdiction will likely vary considerably with respect to proposed specific actions, it is critical that the overall combined milestones product be </a:t>
            </a: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consistent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comprehensive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bayjournal.com/images/large/2008-January-3232-img-1.jpg"/>
          <p:cNvPicPr/>
          <p:nvPr/>
        </p:nvPicPr>
        <p:blipFill>
          <a:blip r:embed="rId2"/>
          <a:srcRect l="15139" t="0" r="14195" b="0"/>
          <a:stretch/>
        </p:blipFill>
        <p:spPr>
          <a:xfrm>
            <a:off x="6705720" y="1523880"/>
            <a:ext cx="21333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892-E60C-4E80-AE22-734411C0FCA2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10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Text Box 8" descr=""/>
          <p:cNvPicPr/>
          <p:nvPr/>
        </p:nvPicPr>
        <p:blipFill>
          <a:blip r:embed="rId1"/>
          <a:stretch/>
        </p:blipFill>
        <p:spPr>
          <a:xfrm>
            <a:off x="12600" y="103320"/>
            <a:ext cx="7315200" cy="780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5335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aintain consistency across the 7 juris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601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Accelerates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past rates of implementation (ensure milestones result in accelerated implementation, not just maintaining current 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ilestone outcomes include: pounds reduced , acres implemented, adoption of new regulations, legislation,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601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Measurable, trackable, reportable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nd related to the end goal (cap load allo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Jurisdiction-specific milestone outcomes can be rolled up into a single, basin-wid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ccount for implementation </a:t>
            </a: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actions of al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7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85E8-E9E7-4306-A033-083FDA2FA77A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16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Text Box 8" descr=""/>
          <p:cNvPicPr/>
          <p:nvPr/>
        </p:nvPicPr>
        <p:blipFill>
          <a:blip r:embed="rId1"/>
          <a:stretch/>
        </p:blipFill>
        <p:spPr>
          <a:xfrm>
            <a:off x="12600" y="103320"/>
            <a:ext cx="7309080" cy="780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04920" y="1752480"/>
            <a:ext cx="67053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The PSC agreed to continue to apply the Phase 4.3 model for development of the initial two-year milest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The PSC agreed to the common template for public presentation of two-year milest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2"/>
          <a:srcRect l="0" t="4500" r="0" b="4340"/>
          <a:stretch/>
        </p:blipFill>
        <p:spPr>
          <a:xfrm>
            <a:off x="6705720" y="990720"/>
            <a:ext cx="1760400" cy="291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5985000" y="4267080"/>
            <a:ext cx="18270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1586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94E-1E7F-4ECC-805A-38712D42681C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24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Text Box 8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8120160" cy="701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457200" y="1219320"/>
            <a:ext cx="8305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2010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irected Bay jurisdictions and EPA to track and evaluate progress toward implementing the 2009 - 2011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2011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SC agreed to use “interim” approach to provide results to EC based on percentage of practices implemented versus the original milestone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-    Model updates were not completed to provide load reduction results at the 2011 EC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CBP partners committed to report to EC a final assessment of load reductions achieved during the entire three-year period to be available at 2012 EC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4F66-71D5-43F5-899B-31FBBB50C607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30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Text Box 8" descr=""/>
          <p:cNvPicPr/>
          <p:nvPr/>
        </p:nvPicPr>
        <p:blipFill>
          <a:blip r:embed="rId1"/>
          <a:stretch/>
        </p:blipFill>
        <p:spPr>
          <a:xfrm>
            <a:off x="12600" y="103320"/>
            <a:ext cx="7309080" cy="1328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68580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PA expects the final evaluation of 2009‐2011 milestones to be based on reductions in nitrogen, phosphorus and sediment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PA expects to </a:t>
            </a:r>
            <a:r>
              <a:rPr b="1" lang="en-US" sz="2400" spc="-1" strike="noStrike">
                <a:solidFill>
                  <a:srgbClr val="cc7900"/>
                </a:solidFill>
                <a:latin typeface="Calibri"/>
              </a:rPr>
              <a:t>compare loads resulting from the 2011 progress run to the 2008 baseline progress run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to assess reductions resulting from the 2009‐2011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EPA will work with Bay jurisdictions to determine how to evaluate final milestone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3F3F-DC2F-4DD7-B813-C9D5F5180B46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36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Text Box 8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7278840" cy="701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Phase 4.3 in place when milestones were developed, but not all the jurisdictions used 4.3 for mileston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Does not allow credit for the new BMPs that are in phase 5.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ot compatible with N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Jurisdictions would need to submit 2 input decks and CBPO would complete two 2011 progress runs for 1) 4.3 and 2) 5.3.2, creating extra effort for Partnership and confusion for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48A-8AFF-40AE-9DE0-0DA629D33C26}" type="slidenum">
              <a:rPr b="1" lang="en-US" sz="9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42" name="Rectangle 9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cc7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Text Box 8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7278840" cy="1195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462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6200"/>
                </a:solidFill>
                <a:latin typeface="Calibri"/>
              </a:rPr>
              <a:t>Less effort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on all fronts to assess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States only submit and CBPO only processes 1 input deck for 2011 progress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NEIEN data compatible with 5.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Using this model phase </a:t>
            </a:r>
            <a:r>
              <a:rPr b="0" lang="en-US" sz="2400" spc="-1" strike="noStrike">
                <a:solidFill>
                  <a:srgbClr val="a46200"/>
                </a:solidFill>
                <a:latin typeface="Calibri"/>
              </a:rPr>
              <a:t>maintains consistency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with 2012-2013 and future milestones and Phase II Plann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462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6200"/>
                </a:solidFill>
                <a:latin typeface="Calibri"/>
              </a:rPr>
              <a:t>More BMPs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available for credi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Milestone workgroup supported using 5.3.2 during conference call from April 14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04:28Z</dcterms:created>
  <dc:creator>CBPO Staff</dc:creator>
  <dc:description/>
  <dc:language>en-US</dc:language>
  <cp:lastModifiedBy>gbarranco</cp:lastModifiedBy>
  <dcterms:modified xsi:type="dcterms:W3CDTF">2012-02-29T23:37:41Z</dcterms:modified>
  <cp:revision>253</cp:revision>
  <dc:subject/>
  <dc:title>Executive Order 13508 Final Strategy Overview</dc:title>
</cp:coreProperties>
</file>