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1DC1-6C96-43F6-AF40-699F89414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results of survey mon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104A-BD6E-47B8-9583-796D75C7D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CD on PSC for this mee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D450-3334-46A5-9143-E7C629C76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B073-F3C1-4C4D-A42C-F63413BD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1900-27F5-4252-929B-8942889B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081-0CB2-42E5-8157-524B6BE0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F567-1755-4236-8CA2-77B28CF4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7791-C3F3-4B22-BE59-C3DA70FE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80B5-B771-44D1-A0DF-41BB9E8F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6C3F-4425-4E49-BE8E-5C20CA23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D2EE-9238-4886-A056-4DE0B1F1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7D42-CAC1-44A4-8856-7153520E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61ED-3F66-4FEA-924D-1AFA808E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D815-438D-48FC-B2FB-7532AAAD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D33E-E9A1-4039-ABA5-D5BB6D8B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C204-B86B-494E-B3A4-746F0399A6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B633-3562-4635-82DD-58141ECEA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hesapeake_Bay_Thunderstor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roposed Workplan for Completing the Alignment of the Partne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Management Board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9/13/1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arin Bisl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179064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N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 and 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needed to workpl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mmend forwarding to PSC for approv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 of Go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utcome of Discussion – Feedback to the GITs that will help them improve goal stat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 to Guide Discussion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the goals SMART?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cific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urabl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ievable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ults-oriented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e-Boun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there any goals that give you concer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there specific goals that you need more information 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re anything missing that would keep the Program from achieving its miss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normal_iil_diagram_chesapeake_restoration_goals_defending_our_national_treasure~0.png"/>
          <p:cNvPicPr/>
          <p:nvPr/>
        </p:nvPicPr>
        <p:blipFill>
          <a:blip r:embed="rId1"/>
          <a:stretch/>
        </p:blipFill>
        <p:spPr>
          <a:xfrm>
            <a:off x="228600" y="228600"/>
            <a:ext cx="83772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e C2K and streamlining of commit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sure a set of shared priorities that fully represents the interests of the Partnership including consideration of emerging issues(e.g. climate chang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rify governance (roles, organization, oper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 efficient operational structure for collab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able effective communication of Partnership’s refreshed goals, outcomes and accomplish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July 11, 2011 the EC agreed to use a four stage process as the path forw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same meeting, they agreed to use an adaptive management decision support frame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raft workplan was developed using these two documents as source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ting Goals and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evelop Decision Support Frame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ITs use framework for at least one goal by March 31,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aining GIT goals through Framework by end of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B discuss and provide feedback to GIT chairs the full array of draft goal beginning in Aug.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isory Committees will provide advice through MB and PSC re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ting Goals and Outcomes (Con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 PSC (or Action Team) will review new goals/outcomes, review advice from MB and ACs, assess commitments made through EC actions to determine if new Agreement is necessary (March/Apr 2013 retrea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  Depending on #6, EC announces adoption of goals /new agreement (2013 EC meet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N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Gover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Develop survey for MB to initiate discussions on any necessary changes to the structure, operational functions and membership of the M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GIT 6 will analyze resul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GIT Chairs for input (Sept. 20,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B for recommendations to PSC (Oct.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PSC for action (Oct/Nov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Governance (Con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GIT 6 will develop draft protocol for “including federal, state, and local partners in the development of the new Agreemen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B to recommend to PSC (Nov.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PSC for approval (Jan/Feb 2013 mt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70c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Use protocol to determine goals/outcomes of Program and whether a new agreement is necessary (March/April 2013 retre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70c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Governance (Con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Using decision-making body identified in protocol, CBP to “revisit the governance and operations of the Chesapeake Bay Program and Partnership . . . To clarify relationships between previous agreement signatories, other federal agencies, and headwater states, and to formalize the role and relationships with the FLC . . 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EC and FLC approve changes to governance (2013 EC meet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8:15:39Z</dcterms:created>
  <dc:creator>cbisland</dc:creator>
  <dc:description/>
  <dc:language>en-US</dc:language>
  <cp:lastModifiedBy>cbisland</cp:lastModifiedBy>
  <dcterms:modified xsi:type="dcterms:W3CDTF">2012-09-12T21:14:48Z</dcterms:modified>
  <cp:revision>35</cp:revision>
  <dc:subject/>
  <dc:title>Slide 1</dc:title>
</cp:coreProperties>
</file>