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ABE-D71B-48C9-8D18-6612A2F5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AB5-6969-42A7-A406-7466C699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6FF-633C-4024-BFA1-33D4773B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558-16AB-4651-8113-EFABA7F5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CF6E-2B16-4BB4-96B5-6CE564FC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65DE-5D12-41F1-940B-DC72700C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7E6-35F6-4CDF-BD21-58248BC2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8EB1-5DF8-4C6B-90D9-F7682EE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FF8-6BF3-4DA0-B4FC-35FE528F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177-9AD6-4CA0-B336-69335C2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C746-9E77-4DF7-B2CB-022ACFE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B5B-DF92-4D75-8F88-636A622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C3D6-39E4-435E-8E04-012ED20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6C6-9E45-48AD-882A-294A5912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D54B-D238-4376-A17A-AF3E4A43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05E-41E4-452C-8B35-0A6213AB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C56-3833-410B-AA59-34832C89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2C8D-1FE3-41A8-AA24-0A4842C2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7AFE-4307-400C-9A3B-36DB599B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BE48-AA24-4F5C-A35F-6C1D8EA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16D62-F293-46E2-BC47-B633EFF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FCA1-EBA9-4EF4-94D0-268BD323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CF1-4EA6-4A15-81FE-5E55F84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A7F9-BD87-4597-B349-F87E457D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95C0-159B-4638-9661-899E59B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E5AC-6F8B-4F97-BAAA-DDEE80D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E853-2357-4DCE-90ED-249125B9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2E5C-0099-4E0A-97EA-47EECC29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B1DB-2A24-4401-92A6-AED2A7A9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2309-63A8-424D-94BD-6A297B4D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B4BA-CA54-4FAC-BC96-EE68205B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4D29-19D9-489A-BE3A-211936C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C7A6-A747-4BF1-9814-0A0851B1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025-B594-411A-A17B-82DC49E9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D472-DE6C-41E6-8B04-688952BB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5625-19B1-4C87-AA04-B6F23E1C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BDBA-52C9-4697-B5A3-AF164AA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13E2-3D93-444F-B995-2509EB8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64DE-B4A4-4FB3-9CD6-5BC9D47A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0931-3867-4DCE-ACAA-83D208E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09E2-1CAA-4FB6-B81A-5800144E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4BE1-0341-4107-A1E7-4D06F4F8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F53D-D113-47A7-AAFE-2629C670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DA2-C26C-4D3D-8A64-74020F1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55B-11C9-4E27-BE44-70777F3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405-F816-43A5-ACA1-058DA15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364-0430-4313-A188-49CCF33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DBC-2FA2-4868-A23C-6BE91690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DBCC-1963-4046-9546-5F282E8792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B6A-3E35-44AE-B1D0-036081D98F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9AA5-5325-4751-8162-8342480DFB9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26A-220F-48A4-887A-090DB2757A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85680" y="987480"/>
            <a:ext cx="9167760" cy="2987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480" y="426672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esapeake Bay Program Management Bo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pril 11, 201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January 10, 2013, the Management Board approved development of a set of options for a finance advisory committee for consider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orts to protect and restore the Chesapeake Bay and its watershed demand significant investments to achieve success.  Such investments require financial strategies, tools, coordination, and partnership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esapeake Bay Program sponsored environmental finance workshops and webinars in 2012 and 2013, but greater effort is needed to support Bay Program partners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1: Statu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itute workgroup as part of existing organization such as EPA EFAB or GIT 6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advisory committee with standing equal to CAC, LGAC, or STA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533520" y="373392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2: 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457200" y="449568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f new group should be on water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f new group should be all goals of the Chesapeake Bay Partne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3: Scop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f new group should be on either public financing or private financ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f new group should be on both public and private financ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f new group should be on both but place greater emphasis on one or the oth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533520" y="4114800"/>
            <a:ext cx="82296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4: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502920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group should be open to all potential members willing to 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group should be limited in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5: Credentia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hip in new group should not be predicated on professional credentials and experti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hip in new group should require demonstration of appropriate credentials and expertise.  Half the membership should be from entities headquartered outside the Chesapeake Bay watersh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457200" y="3809880"/>
            <a:ext cx="82296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6: T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457200" y="45720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membership in new group should not be lim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membership in new group should be limited to five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ms should be staggered with a portion rotating off on a specific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ption 7: Oper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plan of new group should be based on issued raised by Chesapeake Bay Program partn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plan of new group should be based on issued raised by members of the new grou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plan of new group should be based on issued raised by Chesapeake Bay Program partners  and by members of the new grou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udget Impli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FY 2009, CAC and LGAC have each received between $150,000 and $169,000 per year in Chesapeake Bay Program funds.  During the same period, STAC has received between $303,000 and $401,000 per year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expect the new group to conduct much of its business via teleconference and video confere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broad mandate of the new group, we expect its budget to be between $150,000 and $300,00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4:50:05Z</dcterms:created>
  <dc:creator>Kevin DeBell</dc:creator>
  <dc:description/>
  <dc:language>en-US</dc:language>
  <cp:lastModifiedBy>Lauren Taneyhill</cp:lastModifiedBy>
  <dcterms:modified xsi:type="dcterms:W3CDTF">2013-03-29T17:04:06Z</dcterms:modified>
  <cp:revision>18</cp:revision>
  <dc:subject/>
  <dc:title>Chesapeake Bay Environmental Finance Advisory Committee</dc:title>
</cp:coreProperties>
</file>