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i="1" lang="en-US" sz="5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4F270-846E-42E1-ADE0-EB1A9B3C4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0DF50-EC78-461D-BC74-F0EB72801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2960" y="4416120"/>
            <a:ext cx="50320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18DD-B4C7-453C-86D0-7584A256C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2069-713D-4A57-9BB6-15808619F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F2DC-F6B6-44F7-82D6-13BEA144C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3707-062B-43B4-AC40-0C3014540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7862-2304-41E7-AA28-C3E6A68D0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0ADB-1BEA-4474-8C67-F23DE4105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D672-DD56-4BF2-8570-24A01CC47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37E8-F3BA-407F-9CA8-108AB7160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EB74-E02E-4CC8-B68F-9FC7DE5F9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55FC-F3F3-47E4-9155-3E769671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66D2-D0EC-47EF-9BBC-655521A1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BBC7-3223-415B-ABBE-83F7BA09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i="1" lang="en-US" sz="5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FB1CD-FB3F-404D-822F-70B8EA332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99"/>
                </a:solidFill>
                <a:latin typeface="Arial"/>
              </a:rPr>
              <a:t>Deciding on the Working Target Loads for the Chesapeake Bay</a:t>
            </a:r>
            <a:endParaRPr b="1" i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933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Chesapeake Bay Program</a:t>
            </a:r>
            <a:endParaRPr b="1" lang="en-US" sz="1800" spc="-1" strike="noStrike">
              <a:solidFill>
                <a:srgbClr val="9933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Principals’ Staff Committee Meeting</a:t>
            </a:r>
            <a:endParaRPr b="1" lang="en-US" sz="1800" spc="-1" strike="noStrike">
              <a:solidFill>
                <a:srgbClr val="9933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October 23, 2009</a:t>
            </a:r>
            <a:endParaRPr b="1" lang="en-US" sz="1800" spc="-1" strike="noStrike">
              <a:solidFill>
                <a:srgbClr val="9933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933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Bob Koroncai</a:t>
            </a:r>
            <a:endParaRPr b="1" lang="en-US" sz="1800" spc="-1" strike="noStrike">
              <a:solidFill>
                <a:srgbClr val="9933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USEPA Region III Water Protection Division</a:t>
            </a:r>
            <a:endParaRPr b="1" lang="en-US" sz="1800" spc="-1" strike="noStrike">
              <a:solidFill>
                <a:srgbClr val="9933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933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Technical analysis by Lewis Linker</a:t>
            </a:r>
            <a:endParaRPr b="1" lang="en-US" sz="1800" spc="-1" strike="noStrike">
              <a:solidFill>
                <a:srgbClr val="9933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933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Attachment C</a:t>
            </a:r>
            <a:endParaRPr b="1" lang="en-US" sz="1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99"/>
                </a:solidFill>
                <a:latin typeface="Arial"/>
              </a:rPr>
              <a:t>DO violations (1993-1995)</a:t>
            </a:r>
            <a:endParaRPr b="1" i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28600" y="879480"/>
            <a:ext cx="7905600" cy="5773680"/>
            <a:chOff x="228600" y="879480"/>
            <a:chExt cx="7905600" cy="5773680"/>
          </a:xfrm>
        </p:grpSpPr>
        <p:sp>
          <p:nvSpPr>
            <p:cNvPr id="74" name=""/>
            <p:cNvSpPr/>
            <p:nvPr/>
          </p:nvSpPr>
          <p:spPr>
            <a:xfrm>
              <a:off x="923760" y="896760"/>
              <a:ext cx="7210440" cy="47214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923760" y="4740120"/>
              <a:ext cx="72104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923760" y="3797280"/>
              <a:ext cx="72104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23760" y="2843280"/>
              <a:ext cx="72104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23760" y="1901880"/>
              <a:ext cx="72104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23760" y="960480"/>
              <a:ext cx="72104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23760" y="960480"/>
              <a:ext cx="7210440" cy="4721040"/>
            </a:xfrm>
            <a:prstGeom prst="rect">
              <a:avLst/>
            </a:prstGeom>
            <a:noFill/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23760" y="960480"/>
              <a:ext cx="0" cy="4721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88840" y="5681520"/>
              <a:ext cx="34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88840" y="4740120"/>
              <a:ext cx="34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88840" y="3797280"/>
              <a:ext cx="34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88840" y="2843280"/>
              <a:ext cx="34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88840" y="1901880"/>
              <a:ext cx="34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88840" y="960480"/>
              <a:ext cx="34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23760" y="5681520"/>
              <a:ext cx="72104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923760" y="5681520"/>
              <a:ext cx="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2368440" y="5681520"/>
              <a:ext cx="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3813120" y="5681520"/>
              <a:ext cx="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5246640" y="5681520"/>
              <a:ext cx="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6691320" y="5681520"/>
              <a:ext cx="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8134200" y="5681520"/>
              <a:ext cx="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46280" y="1522440"/>
              <a:ext cx="5767200" cy="3217680"/>
            </a:xfrm>
            <a:custGeom>
              <a:avLst/>
              <a:gdLst/>
              <a:ahLst/>
              <a:rect l="l" t="t" r="r" b="b"/>
              <a:pathLst>
                <a:path w="503" h="280">
                  <a:moveTo>
                    <a:pt x="0" y="280"/>
                  </a:moveTo>
                  <a:lnTo>
                    <a:pt x="126" y="280"/>
                  </a:lnTo>
                  <a:lnTo>
                    <a:pt x="252" y="280"/>
                  </a:lnTo>
                  <a:lnTo>
                    <a:pt x="377" y="214"/>
                  </a:lnTo>
                  <a:lnTo>
                    <a:pt x="503" y="0"/>
                  </a:lnTo>
                </a:path>
              </a:pathLst>
            </a:custGeom>
            <a:noFill/>
            <a:ln w="223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46280" y="3797280"/>
              <a:ext cx="5767200" cy="1884240"/>
            </a:xfrm>
            <a:custGeom>
              <a:avLst/>
              <a:gdLst/>
              <a:ahLst/>
              <a:rect l="l" t="t" r="r" b="b"/>
              <a:pathLst>
                <a:path w="503" h="164">
                  <a:moveTo>
                    <a:pt x="0" y="164"/>
                  </a:moveTo>
                  <a:lnTo>
                    <a:pt x="126" y="164"/>
                  </a:lnTo>
                  <a:lnTo>
                    <a:pt x="252" y="164"/>
                  </a:lnTo>
                  <a:lnTo>
                    <a:pt x="377" y="131"/>
                  </a:lnTo>
                  <a:lnTo>
                    <a:pt x="503" y="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646280" y="5475240"/>
              <a:ext cx="46080" cy="22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795320" y="5475240"/>
              <a:ext cx="46080" cy="22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944720" y="5475240"/>
              <a:ext cx="46080" cy="22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093760" y="5475240"/>
              <a:ext cx="44640" cy="22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241720" y="5475240"/>
              <a:ext cx="45720" cy="22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390760" y="5475240"/>
              <a:ext cx="46080" cy="22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540160" y="5475240"/>
              <a:ext cx="45720" cy="22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689200" y="5475240"/>
              <a:ext cx="46080" cy="22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838600" y="5475240"/>
              <a:ext cx="45720" cy="22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87640" y="5475240"/>
              <a:ext cx="46080" cy="22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137040" y="5464080"/>
              <a:ext cx="56880" cy="3348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0" y="7"/>
                  </a:moveTo>
                  <a:lnTo>
                    <a:pt x="29" y="0"/>
                  </a:lnTo>
                  <a:lnTo>
                    <a:pt x="36" y="14"/>
                  </a:lnTo>
                  <a:lnTo>
                    <a:pt x="0" y="2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86080" y="5440320"/>
              <a:ext cx="46080" cy="3492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0" y="7"/>
                  </a:moveTo>
                  <a:lnTo>
                    <a:pt x="29" y="0"/>
                  </a:lnTo>
                  <a:lnTo>
                    <a:pt x="29" y="22"/>
                  </a:lnTo>
                  <a:lnTo>
                    <a:pt x="0" y="2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435480" y="5429160"/>
              <a:ext cx="44280" cy="3492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0" y="0"/>
                  </a:moveTo>
                  <a:lnTo>
                    <a:pt x="28" y="0"/>
                  </a:lnTo>
                  <a:lnTo>
                    <a:pt x="28" y="14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83080" y="5405400"/>
              <a:ext cx="46080" cy="3492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0" y="8"/>
                  </a:moveTo>
                  <a:lnTo>
                    <a:pt x="29" y="0"/>
                  </a:lnTo>
                  <a:lnTo>
                    <a:pt x="29" y="15"/>
                  </a:lnTo>
                  <a:lnTo>
                    <a:pt x="0" y="22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732120" y="5383080"/>
              <a:ext cx="46080" cy="3492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0" y="7"/>
                  </a:moveTo>
                  <a:lnTo>
                    <a:pt x="29" y="0"/>
                  </a:lnTo>
                  <a:lnTo>
                    <a:pt x="29" y="22"/>
                  </a:lnTo>
                  <a:lnTo>
                    <a:pt x="0" y="2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81520" y="5371920"/>
              <a:ext cx="46080" cy="3348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0" y="0"/>
                  </a:moveTo>
                  <a:lnTo>
                    <a:pt x="29" y="0"/>
                  </a:lnTo>
                  <a:lnTo>
                    <a:pt x="29" y="14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019400" y="5348160"/>
              <a:ext cx="57240" cy="34920"/>
            </a:xfrm>
            <a:custGeom>
              <a:avLst/>
              <a:gdLst/>
              <a:ahLst/>
              <a:rect l="l" t="t" r="r" b="b"/>
              <a:pathLst>
                <a:path w="36" h="22">
                  <a:moveTo>
                    <a:pt x="0" y="8"/>
                  </a:moveTo>
                  <a:lnTo>
                    <a:pt x="36" y="0"/>
                  </a:lnTo>
                  <a:lnTo>
                    <a:pt x="36" y="15"/>
                  </a:lnTo>
                  <a:lnTo>
                    <a:pt x="7" y="22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168800" y="5325840"/>
              <a:ext cx="57240" cy="34920"/>
            </a:xfrm>
            <a:custGeom>
              <a:avLst/>
              <a:gdLst/>
              <a:ahLst/>
              <a:rect l="l" t="t" r="r" b="b"/>
              <a:pathLst>
                <a:path w="36" h="22">
                  <a:moveTo>
                    <a:pt x="0" y="7"/>
                  </a:moveTo>
                  <a:lnTo>
                    <a:pt x="36" y="0"/>
                  </a:lnTo>
                  <a:lnTo>
                    <a:pt x="36" y="22"/>
                  </a:lnTo>
                  <a:lnTo>
                    <a:pt x="7" y="2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317840" y="5315040"/>
              <a:ext cx="57240" cy="21960"/>
            </a:xfrm>
            <a:custGeom>
              <a:avLst/>
              <a:gdLst/>
              <a:ahLst/>
              <a:rect l="l" t="t" r="r" b="b"/>
              <a:pathLst>
                <a:path w="36" h="14">
                  <a:moveTo>
                    <a:pt x="0" y="0"/>
                  </a:moveTo>
                  <a:lnTo>
                    <a:pt x="36" y="0"/>
                  </a:lnTo>
                  <a:lnTo>
                    <a:pt x="36" y="14"/>
                  </a:lnTo>
                  <a:lnTo>
                    <a:pt x="7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467240" y="5290920"/>
              <a:ext cx="57240" cy="34920"/>
            </a:xfrm>
            <a:custGeom>
              <a:avLst/>
              <a:gdLst/>
              <a:ahLst/>
              <a:rect l="l" t="t" r="r" b="b"/>
              <a:pathLst>
                <a:path w="36" h="22">
                  <a:moveTo>
                    <a:pt x="0" y="7"/>
                  </a:moveTo>
                  <a:lnTo>
                    <a:pt x="28" y="0"/>
                  </a:lnTo>
                  <a:lnTo>
                    <a:pt x="36" y="15"/>
                  </a:lnTo>
                  <a:lnTo>
                    <a:pt x="0" y="2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614840" y="5268960"/>
              <a:ext cx="58680" cy="33120"/>
            </a:xfrm>
            <a:custGeom>
              <a:avLst/>
              <a:gdLst/>
              <a:ahLst/>
              <a:rect l="l" t="t" r="r" b="b"/>
              <a:pathLst>
                <a:path w="37" h="21">
                  <a:moveTo>
                    <a:pt x="0" y="7"/>
                  </a:moveTo>
                  <a:lnTo>
                    <a:pt x="29" y="0"/>
                  </a:lnTo>
                  <a:lnTo>
                    <a:pt x="37" y="14"/>
                  </a:lnTo>
                  <a:lnTo>
                    <a:pt x="0" y="2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64240" y="5256000"/>
              <a:ext cx="56880" cy="24120"/>
            </a:xfrm>
            <a:custGeom>
              <a:avLst/>
              <a:gdLst/>
              <a:ahLst/>
              <a:rect l="l" t="t" r="r" b="b"/>
              <a:pathLst>
                <a:path w="36" h="15">
                  <a:moveTo>
                    <a:pt x="0" y="0"/>
                  </a:moveTo>
                  <a:lnTo>
                    <a:pt x="29" y="0"/>
                  </a:lnTo>
                  <a:lnTo>
                    <a:pt x="36" y="15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913280" y="5234040"/>
              <a:ext cx="46080" cy="3492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0" y="0"/>
                  </a:moveTo>
                  <a:lnTo>
                    <a:pt x="29" y="0"/>
                  </a:lnTo>
                  <a:lnTo>
                    <a:pt x="29" y="14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062680" y="5210280"/>
              <a:ext cx="45720" cy="3492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0" y="8"/>
                  </a:moveTo>
                  <a:lnTo>
                    <a:pt x="29" y="0"/>
                  </a:lnTo>
                  <a:lnTo>
                    <a:pt x="29" y="15"/>
                  </a:lnTo>
                  <a:lnTo>
                    <a:pt x="0" y="22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11720" y="5199120"/>
              <a:ext cx="46080" cy="23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361120" y="5176800"/>
              <a:ext cx="46080" cy="3348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0" y="0"/>
                  </a:moveTo>
                  <a:lnTo>
                    <a:pt x="29" y="0"/>
                  </a:lnTo>
                  <a:lnTo>
                    <a:pt x="29" y="14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510160" y="5153040"/>
              <a:ext cx="46080" cy="3492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0" y="7"/>
                  </a:moveTo>
                  <a:lnTo>
                    <a:pt x="29" y="0"/>
                  </a:lnTo>
                  <a:lnTo>
                    <a:pt x="29" y="15"/>
                  </a:lnTo>
                  <a:lnTo>
                    <a:pt x="0" y="2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659560" y="5141880"/>
              <a:ext cx="44280" cy="22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796000" y="5119560"/>
              <a:ext cx="57240" cy="3348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0" y="0"/>
                  </a:moveTo>
                  <a:lnTo>
                    <a:pt x="36" y="0"/>
                  </a:lnTo>
                  <a:lnTo>
                    <a:pt x="36" y="14"/>
                  </a:lnTo>
                  <a:lnTo>
                    <a:pt x="7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945040" y="5095800"/>
              <a:ext cx="24120" cy="3492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0" y="7"/>
                  </a:moveTo>
                  <a:lnTo>
                    <a:pt x="15" y="0"/>
                  </a:lnTo>
                  <a:lnTo>
                    <a:pt x="15" y="22"/>
                  </a:lnTo>
                  <a:lnTo>
                    <a:pt x="7" y="2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956200" y="5084640"/>
              <a:ext cx="46080" cy="3492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0" y="14"/>
                  </a:moveTo>
                  <a:lnTo>
                    <a:pt x="22" y="0"/>
                  </a:lnTo>
                  <a:lnTo>
                    <a:pt x="29" y="14"/>
                  </a:lnTo>
                  <a:lnTo>
                    <a:pt x="15" y="22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59520" y="4992480"/>
              <a:ext cx="57240" cy="46080"/>
            </a:xfrm>
            <a:custGeom>
              <a:avLst/>
              <a:gdLst/>
              <a:ahLst/>
              <a:rect l="l" t="t" r="r" b="b"/>
              <a:pathLst>
                <a:path w="36" h="29">
                  <a:moveTo>
                    <a:pt x="0" y="22"/>
                  </a:moveTo>
                  <a:lnTo>
                    <a:pt x="29" y="0"/>
                  </a:lnTo>
                  <a:lnTo>
                    <a:pt x="36" y="14"/>
                  </a:lnTo>
                  <a:lnTo>
                    <a:pt x="15" y="29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186600" y="4900680"/>
              <a:ext cx="46080" cy="460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22"/>
                  </a:moveTo>
                  <a:lnTo>
                    <a:pt x="21" y="0"/>
                  </a:lnTo>
                  <a:lnTo>
                    <a:pt x="29" y="15"/>
                  </a:lnTo>
                  <a:lnTo>
                    <a:pt x="7" y="29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300720" y="4808520"/>
              <a:ext cx="57240" cy="46080"/>
            </a:xfrm>
            <a:custGeom>
              <a:avLst/>
              <a:gdLst/>
              <a:ahLst/>
              <a:rect l="l" t="t" r="r" b="b"/>
              <a:pathLst>
                <a:path w="36" h="29">
                  <a:moveTo>
                    <a:pt x="0" y="22"/>
                  </a:moveTo>
                  <a:lnTo>
                    <a:pt x="22" y="0"/>
                  </a:lnTo>
                  <a:lnTo>
                    <a:pt x="36" y="15"/>
                  </a:lnTo>
                  <a:lnTo>
                    <a:pt x="7" y="29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415200" y="4716360"/>
              <a:ext cx="56880" cy="46080"/>
            </a:xfrm>
            <a:custGeom>
              <a:avLst/>
              <a:gdLst/>
              <a:ahLst/>
              <a:rect l="l" t="t" r="r" b="b"/>
              <a:pathLst>
                <a:path w="36" h="29">
                  <a:moveTo>
                    <a:pt x="0" y="22"/>
                  </a:moveTo>
                  <a:lnTo>
                    <a:pt x="22" y="0"/>
                  </a:lnTo>
                  <a:lnTo>
                    <a:pt x="36" y="15"/>
                  </a:lnTo>
                  <a:lnTo>
                    <a:pt x="7" y="29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529320" y="4624200"/>
              <a:ext cx="58680" cy="46080"/>
            </a:xfrm>
            <a:custGeom>
              <a:avLst/>
              <a:gdLst/>
              <a:ahLst/>
              <a:rect l="l" t="t" r="r" b="b"/>
              <a:pathLst>
                <a:path w="37" h="29">
                  <a:moveTo>
                    <a:pt x="0" y="22"/>
                  </a:moveTo>
                  <a:lnTo>
                    <a:pt x="29" y="0"/>
                  </a:lnTo>
                  <a:lnTo>
                    <a:pt x="37" y="15"/>
                  </a:lnTo>
                  <a:lnTo>
                    <a:pt x="15" y="29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656400" y="4532400"/>
              <a:ext cx="46080" cy="4572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22"/>
                  </a:moveTo>
                  <a:lnTo>
                    <a:pt x="22" y="0"/>
                  </a:lnTo>
                  <a:lnTo>
                    <a:pt x="29" y="15"/>
                  </a:lnTo>
                  <a:lnTo>
                    <a:pt x="7" y="29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770520" y="4441680"/>
              <a:ext cx="46080" cy="4464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0" y="21"/>
                  </a:moveTo>
                  <a:lnTo>
                    <a:pt x="22" y="0"/>
                  </a:lnTo>
                  <a:lnTo>
                    <a:pt x="29" y="14"/>
                  </a:lnTo>
                  <a:lnTo>
                    <a:pt x="7" y="2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885000" y="4349520"/>
              <a:ext cx="57240" cy="46080"/>
            </a:xfrm>
            <a:custGeom>
              <a:avLst/>
              <a:gdLst/>
              <a:ahLst/>
              <a:rect l="l" t="t" r="r" b="b"/>
              <a:pathLst>
                <a:path w="36" h="29">
                  <a:moveTo>
                    <a:pt x="0" y="21"/>
                  </a:moveTo>
                  <a:lnTo>
                    <a:pt x="22" y="0"/>
                  </a:lnTo>
                  <a:lnTo>
                    <a:pt x="36" y="14"/>
                  </a:lnTo>
                  <a:lnTo>
                    <a:pt x="8" y="29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000920" y="4257720"/>
              <a:ext cx="57240" cy="46080"/>
            </a:xfrm>
            <a:custGeom>
              <a:avLst/>
              <a:gdLst/>
              <a:ahLst/>
              <a:rect l="l" t="t" r="r" b="b"/>
              <a:pathLst>
                <a:path w="36" h="29">
                  <a:moveTo>
                    <a:pt x="0" y="21"/>
                  </a:moveTo>
                  <a:lnTo>
                    <a:pt x="28" y="0"/>
                  </a:lnTo>
                  <a:lnTo>
                    <a:pt x="36" y="14"/>
                  </a:lnTo>
                  <a:lnTo>
                    <a:pt x="7" y="29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115040" y="4165560"/>
              <a:ext cx="57240" cy="46080"/>
            </a:xfrm>
            <a:custGeom>
              <a:avLst/>
              <a:gdLst/>
              <a:ahLst/>
              <a:rect l="l" t="t" r="r" b="b"/>
              <a:pathLst>
                <a:path w="36" h="29">
                  <a:moveTo>
                    <a:pt x="0" y="22"/>
                  </a:moveTo>
                  <a:lnTo>
                    <a:pt x="29" y="0"/>
                  </a:lnTo>
                  <a:lnTo>
                    <a:pt x="36" y="14"/>
                  </a:lnTo>
                  <a:lnTo>
                    <a:pt x="14" y="29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240680" y="4073400"/>
              <a:ext cx="46080" cy="460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22"/>
                  </a:moveTo>
                  <a:lnTo>
                    <a:pt x="22" y="0"/>
                  </a:lnTo>
                  <a:lnTo>
                    <a:pt x="29" y="14"/>
                  </a:lnTo>
                  <a:lnTo>
                    <a:pt x="7" y="29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354800" y="3981240"/>
              <a:ext cx="58680" cy="46080"/>
            </a:xfrm>
            <a:custGeom>
              <a:avLst/>
              <a:gdLst/>
              <a:ahLst/>
              <a:rect l="l" t="t" r="r" b="b"/>
              <a:pathLst>
                <a:path w="37" h="29">
                  <a:moveTo>
                    <a:pt x="0" y="14"/>
                  </a:moveTo>
                  <a:lnTo>
                    <a:pt x="22" y="0"/>
                  </a:lnTo>
                  <a:lnTo>
                    <a:pt x="37" y="14"/>
                  </a:lnTo>
                  <a:lnTo>
                    <a:pt x="8" y="29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00200" y="4683240"/>
              <a:ext cx="103320" cy="10296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29" y="0"/>
                  </a:moveTo>
                  <a:lnTo>
                    <a:pt x="65" y="36"/>
                  </a:lnTo>
                  <a:lnTo>
                    <a:pt x="29" y="65"/>
                  </a:lnTo>
                  <a:lnTo>
                    <a:pt x="0" y="36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33720" y="4683240"/>
              <a:ext cx="103320" cy="10296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36" y="0"/>
                  </a:moveTo>
                  <a:lnTo>
                    <a:pt x="65" y="36"/>
                  </a:lnTo>
                  <a:lnTo>
                    <a:pt x="36" y="65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478400" y="4683240"/>
              <a:ext cx="102960" cy="10296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36" y="0"/>
                  </a:moveTo>
                  <a:lnTo>
                    <a:pt x="65" y="36"/>
                  </a:lnTo>
                  <a:lnTo>
                    <a:pt x="36" y="65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923080" y="3935520"/>
              <a:ext cx="102960" cy="91800"/>
            </a:xfrm>
            <a:custGeom>
              <a:avLst/>
              <a:gdLst/>
              <a:ahLst/>
              <a:rect l="l" t="t" r="r" b="b"/>
              <a:pathLst>
                <a:path w="65" h="58">
                  <a:moveTo>
                    <a:pt x="29" y="0"/>
                  </a:moveTo>
                  <a:lnTo>
                    <a:pt x="65" y="29"/>
                  </a:lnTo>
                  <a:lnTo>
                    <a:pt x="29" y="58"/>
                  </a:lnTo>
                  <a:lnTo>
                    <a:pt x="0" y="2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4800" y="1476360"/>
              <a:ext cx="10332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37" y="0"/>
                  </a:moveTo>
                  <a:lnTo>
                    <a:pt x="65" y="29"/>
                  </a:lnTo>
                  <a:lnTo>
                    <a:pt x="37" y="65"/>
                  </a:lnTo>
                  <a:lnTo>
                    <a:pt x="0" y="2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600200" y="5624640"/>
              <a:ext cx="103320" cy="114120"/>
            </a:xfrm>
            <a:prstGeom prst="rect">
              <a:avLst/>
            </a:prstGeom>
            <a:solidFill>
              <a:srgbClr val="ff9900"/>
            </a:solidFill>
            <a:ln w="11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33720" y="5624640"/>
              <a:ext cx="114120" cy="114120"/>
            </a:xfrm>
            <a:prstGeom prst="rect">
              <a:avLst/>
            </a:prstGeom>
            <a:solidFill>
              <a:srgbClr val="ff9900"/>
            </a:solidFill>
            <a:ln w="11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478400" y="5624640"/>
              <a:ext cx="114120" cy="114120"/>
            </a:xfrm>
            <a:prstGeom prst="rect">
              <a:avLst/>
            </a:prstGeom>
            <a:solidFill>
              <a:srgbClr val="ff9900"/>
            </a:solidFill>
            <a:ln w="11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923080" y="5256000"/>
              <a:ext cx="114120" cy="104760"/>
            </a:xfrm>
            <a:prstGeom prst="rect">
              <a:avLst/>
            </a:prstGeom>
            <a:solidFill>
              <a:srgbClr val="ff9900"/>
            </a:solidFill>
            <a:ln w="11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354800" y="3740040"/>
              <a:ext cx="115920" cy="114480"/>
            </a:xfrm>
            <a:prstGeom prst="rect">
              <a:avLst/>
            </a:prstGeom>
            <a:solidFill>
              <a:srgbClr val="ff9900"/>
            </a:solidFill>
            <a:ln w="11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00200" y="5440320"/>
              <a:ext cx="10332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29" y="0"/>
                  </a:moveTo>
                  <a:lnTo>
                    <a:pt x="65" y="65"/>
                  </a:lnTo>
                  <a:lnTo>
                    <a:pt x="0" y="65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0000"/>
            </a:solidFill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033720" y="5440320"/>
              <a:ext cx="10332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36" y="0"/>
                  </a:moveTo>
                  <a:lnTo>
                    <a:pt x="65" y="65"/>
                  </a:lnTo>
                  <a:lnTo>
                    <a:pt x="0" y="6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0000"/>
            </a:solidFill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78400" y="5256000"/>
              <a:ext cx="102960" cy="92160"/>
            </a:xfrm>
            <a:custGeom>
              <a:avLst/>
              <a:gdLst/>
              <a:ahLst/>
              <a:rect l="l" t="t" r="r" b="b"/>
              <a:pathLst>
                <a:path w="65" h="58">
                  <a:moveTo>
                    <a:pt x="36" y="0"/>
                  </a:moveTo>
                  <a:lnTo>
                    <a:pt x="65" y="58"/>
                  </a:lnTo>
                  <a:lnTo>
                    <a:pt x="0" y="58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0000"/>
            </a:solidFill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923080" y="5060880"/>
              <a:ext cx="10296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29" y="0"/>
                  </a:moveTo>
                  <a:lnTo>
                    <a:pt x="65" y="65"/>
                  </a:lnTo>
                  <a:lnTo>
                    <a:pt x="0" y="65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0000"/>
            </a:solidFill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354800" y="3935520"/>
              <a:ext cx="103320" cy="91800"/>
            </a:xfrm>
            <a:custGeom>
              <a:avLst/>
              <a:gdLst/>
              <a:ahLst/>
              <a:rect l="l" t="t" r="r" b="b"/>
              <a:pathLst>
                <a:path w="65" h="58">
                  <a:moveTo>
                    <a:pt x="37" y="0"/>
                  </a:moveTo>
                  <a:lnTo>
                    <a:pt x="65" y="58"/>
                  </a:lnTo>
                  <a:lnTo>
                    <a:pt x="0" y="5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0000"/>
            </a:solidFill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63200" y="56023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63200" y="46591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2200" y="3717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2200" y="27748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82200" y="18334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82200" y="8794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393920" y="5819760"/>
              <a:ext cx="66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38 T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838600" y="5819760"/>
              <a:ext cx="66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75 T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272120" y="5819760"/>
              <a:ext cx="66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0 T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16440" y="5819760"/>
              <a:ext cx="66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36 T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1120" y="5819760"/>
              <a:ext cx="66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40 T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371600" y="6129360"/>
              <a:ext cx="71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.0 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16280" y="6129360"/>
              <a:ext cx="71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4.1 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260960" y="6129360"/>
              <a:ext cx="71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5.0 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692680" y="6129360"/>
              <a:ext cx="71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1.0 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137360" y="6129360"/>
              <a:ext cx="71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4.1 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23760" y="5681520"/>
              <a:ext cx="0" cy="64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34200" y="5681520"/>
              <a:ext cx="0" cy="64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368440" y="5681520"/>
              <a:ext cx="0" cy="64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13120" y="5681520"/>
              <a:ext cx="0" cy="64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246640" y="5681520"/>
              <a:ext cx="0" cy="64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691320" y="5681520"/>
              <a:ext cx="0" cy="64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83840" y="6378480"/>
              <a:ext cx="4437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livered Load (million pounds per yea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6200000">
              <a:off x="-1421280" y="3129480"/>
              <a:ext cx="354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umber of Segments in DO Viol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714680" y="1245960"/>
              <a:ext cx="3924000" cy="1528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828800" y="1487520"/>
              <a:ext cx="401760" cy="0"/>
            </a:xfrm>
            <a:prstGeom prst="line">
              <a:avLst/>
            </a:prstGeom>
            <a:ln w="22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990800" y="1454040"/>
              <a:ext cx="79200" cy="7956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21" y="0"/>
                  </a:moveTo>
                  <a:lnTo>
                    <a:pt x="50" y="21"/>
                  </a:lnTo>
                  <a:lnTo>
                    <a:pt x="21" y="50"/>
                  </a:lnTo>
                  <a:lnTo>
                    <a:pt x="0" y="2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60800" y="1366920"/>
              <a:ext cx="3048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pen Water DO Violation Cou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828800" y="1993680"/>
              <a:ext cx="401760" cy="0"/>
            </a:xfrm>
            <a:prstGeom prst="line">
              <a:avLst/>
            </a:prstGeom>
            <a:ln w="22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90800" y="1958760"/>
              <a:ext cx="79200" cy="81000"/>
            </a:xfrm>
            <a:prstGeom prst="rect">
              <a:avLst/>
            </a:prstGeom>
            <a:solidFill>
              <a:srgbClr val="ff9900"/>
            </a:solidFill>
            <a:ln w="11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259720" y="1873080"/>
              <a:ext cx="302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ep Water DO Violation Cou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828800" y="2487600"/>
              <a:ext cx="46080" cy="23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78200" y="2487600"/>
              <a:ext cx="45720" cy="23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127240" y="2487600"/>
              <a:ext cx="46080" cy="23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990800" y="2465280"/>
              <a:ext cx="79200" cy="68400"/>
            </a:xfrm>
            <a:custGeom>
              <a:avLst/>
              <a:gdLst/>
              <a:ahLst/>
              <a:rect l="l" t="t" r="r" b="b"/>
              <a:pathLst>
                <a:path w="50" h="43">
                  <a:moveTo>
                    <a:pt x="21" y="0"/>
                  </a:moveTo>
                  <a:lnTo>
                    <a:pt x="50" y="43"/>
                  </a:lnTo>
                  <a:lnTo>
                    <a:pt x="0" y="4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0000"/>
            </a:solidFill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60080" y="2367000"/>
              <a:ext cx="3261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ep Channel DO Violation Cou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EC10-FAE6-4B13-B313-F8EDC5AA61A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99"/>
                </a:solidFill>
                <a:latin typeface="Arial"/>
              </a:rPr>
              <a:t>The WQGIT unanimously agreed to recommend preliminary, to-be-modified, second-shot, basin-wide target loads of…</a:t>
            </a:r>
            <a:endParaRPr b="1" i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95280" y="3687840"/>
            <a:ext cx="2895840" cy="1752480"/>
          </a:xfrm>
          <a:prstGeom prst="ellipse">
            <a:avLst/>
          </a:prstGeom>
          <a:blipFill rotWithShape="0">
            <a:blip r:embed="rId1">
              <a:alphaModFix amt="48000"/>
            </a:blip>
            <a:srcRect/>
            <a:tile tx="0" ty="0" sx="100000" sy="100000" algn="ctr"/>
          </a:blipFill>
          <a:ln w="540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029200" y="3763800"/>
            <a:ext cx="2895480" cy="1752840"/>
          </a:xfrm>
          <a:prstGeom prst="ellipse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540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038480" y="4068720"/>
            <a:ext cx="1219320" cy="763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22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304920" y="4145040"/>
            <a:ext cx="2285280" cy="3961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07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629760" y="4221000"/>
            <a:ext cx="2285280" cy="396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07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58080" y="4016520"/>
            <a:ext cx="230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5f5f"/>
                </a:solidFill>
                <a:latin typeface="Viner Hand ITC"/>
              </a:rPr>
              <a:t>200 mp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5f5f"/>
                </a:solidFill>
                <a:latin typeface="Viner Hand ITC"/>
              </a:rPr>
              <a:t>Nitro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71600" y="3992400"/>
            <a:ext cx="3052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5f5f"/>
                </a:solidFill>
                <a:latin typeface="Viner Hand ITC"/>
              </a:rPr>
              <a:t>15 mp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5f5f"/>
                </a:solidFill>
                <a:latin typeface="Viner Hand ITC"/>
              </a:rPr>
              <a:t>Phosphor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 rot="1832400">
            <a:off x="4812840" y="4377960"/>
            <a:ext cx="2819520" cy="281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B78E-AFA4-415A-9E0C-4B088D1094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99"/>
                </a:solidFill>
                <a:latin typeface="Arial"/>
              </a:rPr>
              <a:t>Decision Requested….</a:t>
            </a:r>
            <a:endParaRPr b="1" i="1" lang="en-US" sz="5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SC approval of the preliminary basinwide target load of 200 million pounds per year nitrogen and 15 million pounds per year phosphoru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724280" y="3056040"/>
            <a:ext cx="4419720" cy="380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4ABA-EF90-4312-9B95-DBA87E355C7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99"/>
                </a:solidFill>
                <a:latin typeface="Arial"/>
              </a:rPr>
              <a:t>Decisions for Today</a:t>
            </a:r>
            <a:endParaRPr b="1" i="1" lang="en-US" sz="5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Basinwide target load (revisited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Basin-jurisdiction working target load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chedule for completion of the Bay TMDL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434280" y="3809880"/>
            <a:ext cx="2709720" cy="3048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AE3E-E37C-48F3-93CD-E7B4782E42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99"/>
                </a:solidFill>
                <a:latin typeface="Arial"/>
              </a:rPr>
              <a:t>Agenda Review</a:t>
            </a:r>
            <a:endParaRPr b="1" i="1" lang="en-US" sz="5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8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Overview and new basinwide target load- Koroncai</a:t>
            </a:r>
            <a:endParaRPr b="1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39480" indent="-339480">
              <a:spcBef>
                <a:spcPts val="18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Method for distributing target load to basins-jurisdictions- Shenk</a:t>
            </a:r>
            <a:endParaRPr b="1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39480" indent="-339480">
              <a:spcBef>
                <a:spcPts val="18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Options for distributing target load to basins-jurisdictions- Koroncai</a:t>
            </a:r>
            <a:endParaRPr b="1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39480" indent="-339480">
              <a:spcBef>
                <a:spcPts val="18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Lunch- digest what you heard</a:t>
            </a:r>
            <a:endParaRPr b="1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39480" indent="-339480">
              <a:spcBef>
                <a:spcPts val="18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Discuss and agree to working target loads to basins-jurisdictions- Secretary Bryant</a:t>
            </a:r>
            <a:endParaRPr b="1" lang="en-US" sz="2400" spc="-1" strike="noStrike">
              <a:solidFill>
                <a:srgbClr val="993300"/>
              </a:solidFill>
              <a:latin typeface="Arial"/>
            </a:endParaRPr>
          </a:p>
          <a:p>
            <a:pPr marL="339480" indent="-339480">
              <a:spcBef>
                <a:spcPts val="18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Schedule for TMDL- Batiuk</a:t>
            </a:r>
            <a:endParaRPr b="1" lang="en-US" sz="2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99FD-DB4D-4029-8946-1A5B73C12B5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33526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TMDL’s are like sausages, 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it is better not to see them being made.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11640" y="4572000"/>
            <a:ext cx="25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-Anonymous me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of the WQG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CA20-D4FE-4268-9CF6-8ED90E36BBB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99"/>
                </a:solidFill>
                <a:latin typeface="Arial"/>
              </a:rPr>
              <a:t>As a reminder….</a:t>
            </a:r>
            <a:endParaRPr b="1" i="1" lang="en-US" sz="5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inal Bay TMDL is due December 2010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Draft Bay TMDL is due August 2010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o, the basinwide and basin-jurisdiction working target loads are </a:t>
            </a:r>
            <a:r>
              <a:rPr b="1" i="1" lang="en-US" sz="3200" spc="-1" strike="noStrike">
                <a:solidFill>
                  <a:srgbClr val="993300"/>
                </a:solidFill>
                <a:latin typeface="Arial"/>
              </a:rPr>
              <a:t>preliminary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 but are sufficient to start the watershed implementation planning process!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7A02-3052-4DB4-9D0B-67A36212AC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99"/>
                </a:solidFill>
                <a:latin typeface="Arial"/>
              </a:rPr>
              <a:t>Basinwide Target Loads</a:t>
            </a:r>
            <a:endParaRPr b="1" i="1" lang="en-US" sz="5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F58C-B10C-49AD-BD42-70B74E0C425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838080" cy="5176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80880" y="1143000"/>
            <a:ext cx="822672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The Recommended Basinwide Loads Will Change Due to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600200"/>
            <a:ext cx="8458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Upgraded watershed model (Phase 5.2 to 5.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Filter feeder inclusion in the WQ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SAV/clarity target load analys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  <a:ea typeface="Times New Roman"/>
              </a:rPr>
              <a:t>Atmospheric deposition allocation and impact on ocean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  <a:ea typeface="Times New Roman"/>
              </a:rPr>
              <a:t>Trade-offs between N and 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Loading reductions needed to meet local Bay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993300"/>
                </a:solidFill>
                <a:uFillTx/>
                <a:latin typeface="Arial"/>
              </a:rPr>
              <a:t>Updated critical peri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3596-9A2F-425C-84A2-5385F1ACD0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286360" y="0"/>
            <a:ext cx="5558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00"/>
                </a:solidFill>
                <a:latin typeface="Arial"/>
              </a:rPr>
              <a:t>Critical period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04EB-DF93-48D8-9128-4FC600C503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99"/>
                </a:solidFill>
                <a:latin typeface="Arial"/>
              </a:rPr>
              <a:t>Critical period</a:t>
            </a:r>
            <a:endParaRPr b="1" i="1" lang="en-US" sz="5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1996-1998- About once in 20 years 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1993-1995- About once in 10 year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Generally, the highest return interval used in Region III TMDL’s is…once in 10 years!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WQGIT unanimously agreed to use 1993-1995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D645-A79D-4DEA-8E01-032D0456C33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3:59:09Z</dcterms:created>
  <dc:creator>Bob Koroncai</dc:creator>
  <dc:description/>
  <dc:language>en-US</dc:language>
  <cp:lastModifiedBy>Rbatiuk</cp:lastModifiedBy>
  <dcterms:modified xsi:type="dcterms:W3CDTF">2009-10-13T21:33:25Z</dcterms:modified>
  <cp:revision>13</cp:revision>
  <dc:subject/>
  <dc:title>Slide 1</dc:title>
</cp:coreProperties>
</file>