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0BC-D358-44D2-88EB-03B1275D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152-29F4-4268-971F-5E08F1B5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C31-7FF1-4234-B500-ABFE4513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CB6-DCB6-4207-944B-6681B78D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3F7-6791-41E0-9BBC-09F56029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C67-B9F6-44FF-BFF6-D87B2F79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DD4-6C32-49CF-BA63-F27D8FD5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9B5-34E1-4999-9EF9-7C79481B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573-184C-4620-892E-EEA40DA4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1DD-CCB5-4603-BDDE-812C99B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198-9A6C-4D03-979D-FED155E4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9EF-4942-4B7B-A2FC-C1E5F7B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FFEF-7FBF-4DCA-A121-738B0A5B5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539" t="16954" r="2108" b="13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 to Distribute Target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s’ Staff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/23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Koroncai - Gary She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674-795F-488A-9144-D69B82D3EE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364-A3B0-40AD-B14B-3ADB222CB1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2 lines, WWTP and all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T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t WWTP at a high level and meet water quality goals with other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o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691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ed 5 options and reached a unanimous recommendation to forward the 2 follow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erences of WQG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310-3566-4AC0-AA8E-F39F852053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9800" y="914400"/>
            <a:ext cx="99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5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8480" y="1905120"/>
            <a:ext cx="802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9280" y="2895480"/>
            <a:ext cx="1866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55760" y="5068800"/>
            <a:ext cx="1468440" cy="459720"/>
          </a:xfrm>
          <a:prstGeom prst="rect">
            <a:avLst/>
          </a:prstGeom>
          <a:solidFill>
            <a:srgbClr val="e7d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C22-7D96-4361-BA76-D61BE7C45C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9800" y="914400"/>
            <a:ext cx="9928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5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8480" y="1905120"/>
            <a:ext cx="802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9280" y="2895480"/>
            <a:ext cx="1866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55760" y="5068800"/>
            <a:ext cx="1468440" cy="459720"/>
          </a:xfrm>
          <a:prstGeom prst="rect">
            <a:avLst/>
          </a:prstGeom>
          <a:solidFill>
            <a:srgbClr val="e7d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6BE-5D5D-4DC6-8E2B-C06F84A239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60160" y="1309680"/>
            <a:ext cx="1119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2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21480" y="1752480"/>
            <a:ext cx="1119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3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9280" y="3290760"/>
            <a:ext cx="1866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971800"/>
            <a:ext cx="1468440" cy="459720"/>
          </a:xfrm>
          <a:prstGeom prst="rect">
            <a:avLst/>
          </a:prstGeom>
          <a:solidFill>
            <a:srgbClr val="e7d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8FC-6957-4272-8B65-BA151273CE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60160" y="1309680"/>
            <a:ext cx="1119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2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1480" y="1752480"/>
            <a:ext cx="1119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3 m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9280" y="3290760"/>
            <a:ext cx="1866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971800"/>
            <a:ext cx="1468440" cy="459720"/>
          </a:xfrm>
          <a:prstGeom prst="rect">
            <a:avLst/>
          </a:prstGeom>
          <a:solidFill>
            <a:srgbClr val="e7d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1C6-B8A2-4083-B8A9-3C506B8343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BBC-E3C6-4EBA-84B9-2A7BAEA9B0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160-92AC-48C2-974F-89DBCE58D1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Requested . . 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PSC prefer option A or option B as the initial working target loads for the purpose of starting the watershed implementation pl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843-75D8-40F8-9787-CAA180C850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6D3-B542-4CD6-B466-DA27424ADD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81080" y="166680"/>
            <a:ext cx="609624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ffe6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Target Loa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BA9-3343-4AFC-80A9-8FB46BD723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C55-332D-47E4-8424-FFE60212BF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7D1-C4CD-496E-B8A8-E53780436C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659-E3F7-48A1-903A-85CE298B29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21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EC7-0B42-4A93-8254-AEFEEE08E9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1176" t="20909" r="4706" b="5455"/>
          <a:stretch/>
        </p:blipFill>
        <p:spPr>
          <a:xfrm>
            <a:off x="23760" y="914400"/>
            <a:ext cx="462456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9f4e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Effectiveness is a combination of Watershed Delivery and Estuarin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76520"/>
            <a:ext cx="1295280" cy="1295280"/>
          </a:xfrm>
          <a:prstGeom prst="rect">
            <a:avLst/>
          </a:prstGeom>
          <a:solidFill>
            <a:srgbClr val="f9f4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2833920" cy="365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96120" y="2597040"/>
            <a:ext cx="2824200" cy="365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27432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676520"/>
            <a:ext cx="16761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2600" y="182880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omac Estu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56280" y="182880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Estu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71A-1FF7-4813-AC21-BFEC7B014D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5400000">
            <a:off x="3062880" y="4896000"/>
            <a:ext cx="698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111000" y="5423040"/>
            <a:ext cx="698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661840" y="447120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709960" y="486972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204640" y="408888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208480" y="441252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1747440" y="309816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795560" y="3098160"/>
            <a:ext cx="58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1D8-2577-4E92-B61E-5CE7DAB544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106668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9492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752120" y="40384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10080" y="3352680"/>
            <a:ext cx="5724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286000" y="4038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48520" y="3200400"/>
            <a:ext cx="5688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590560" y="396216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743200" y="38862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57240" y="38862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647960" y="37339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4876920" y="373356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410080" y="365760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019920" y="358128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400800" y="358128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857640" y="35812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391160" y="342864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8000640" y="3352680"/>
            <a:ext cx="7621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166680"/>
            <a:ext cx="617220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ffe6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Target Load Method from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5400000">
            <a:off x="4281840" y="-2605680"/>
            <a:ext cx="1265400" cy="7848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5400000">
            <a:off x="4408200" y="1458720"/>
            <a:ext cx="1095120" cy="793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886360" y="3276720"/>
            <a:ext cx="5724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410600" y="3143160"/>
            <a:ext cx="5688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142640" y="1752480"/>
            <a:ext cx="2286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09280" y="1752480"/>
            <a:ext cx="195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090520" y="1600200"/>
            <a:ext cx="347400" cy="17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373120" y="1589040"/>
            <a:ext cx="5871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74520" y="1654200"/>
            <a:ext cx="708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1360" y="1631880"/>
            <a:ext cx="75960" cy="141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18000" y="1685880"/>
            <a:ext cx="34776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18040" y="1674720"/>
            <a:ext cx="696960" cy="11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6720" y="1795320"/>
            <a:ext cx="315720" cy="101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07040" y="1652760"/>
            <a:ext cx="16344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575040" y="1663560"/>
            <a:ext cx="972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032600" y="1816200"/>
            <a:ext cx="7632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978320" y="1795320"/>
            <a:ext cx="446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837200" y="1674720"/>
            <a:ext cx="65160" cy="8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72200" y="2666880"/>
            <a:ext cx="5724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783-1DF5-47CF-9887-4521EB1443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4680" y="3962520"/>
            <a:ext cx="1916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in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800600"/>
            <a:ext cx="3962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Basin-Jurisdictions have single target load no matter how many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8D8-24A0-4545-A3B5-7F00512F94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69560" y="3846600"/>
            <a:ext cx="21315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Slo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744-5ED1-4553-BAA3-A19BE42A3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68480" y="3846600"/>
            <a:ext cx="2006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of th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1F0-4099-4FA8-8D07-89B4A6E8E1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5040" y="3124080"/>
            <a:ext cx="2626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Between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BCF-6E81-42AC-BF01-33180C433C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2:57:02Z</dcterms:created>
  <dc:creator>gshenk</dc:creator>
  <dc:description/>
  <dc:language>en-US</dc:language>
  <cp:lastModifiedBy>Kristin Foringer</cp:lastModifiedBy>
  <dcterms:modified xsi:type="dcterms:W3CDTF">2009-10-22T13:09:41Z</dcterms:modified>
  <cp:revision>11</cp:revision>
  <dc:subject/>
  <dc:title>Target Load Method</dc:title>
</cp:coreProperties>
</file>