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61E8-1516-4D9B-9247-E55061DCD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8705-10D0-4603-9CC5-EBC1BCD2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F94C-3319-4819-9815-949C0289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D079-9645-479F-AC97-A3E0C19B1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CDDA-C9F0-4D8E-9808-BBEA8716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301A-B16B-4C9C-81FE-8E803E84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7D30-7788-4BD7-AA4A-D9DAE4F2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28D4-EBAC-483C-9609-99AD6EDA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7132-BDD1-4CEC-9BA0-5FA978E6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1ADF-F62C-4662-BFD3-17575AF4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2E04-0724-4047-B53B-5C789A09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E9EC-669E-4C17-B870-6724BC8A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228600"/>
            <a:ext cx="9144000" cy="7391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13BF-1506-4BE2-9AF0-870843068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Deciding on Initial Working Target Draft Loads to the Basin-Jurisdictions</a:t>
            </a:r>
            <a:br>
              <a:rPr sz="4400"/>
            </a:b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(Option A or Option B?)</a:t>
            </a:r>
            <a:endParaRPr b="1" i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320" y="3429000"/>
            <a:ext cx="5943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Chesapeake Bay Program 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Principals’ Staff Committee Meeting 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October 23, 2009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Bob Koroncai 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USEPA Water Protection Division Region III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Attachment E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686560" y="3200400"/>
            <a:ext cx="3457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"/>
              </a:rPr>
              <a:t>Remember…</a:t>
            </a:r>
            <a:endParaRPr b="1" i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ese are only initial working target loads to start the watershed implementation plan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tates can move target loads to other basins if WQS are me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e separate lines for WWTP and other sources do NOT infer that is how the states need to divide their target load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286760" y="5019840"/>
            <a:ext cx="1857240" cy="183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1FAC-5EB4-4A62-AD8F-6E1FDF5C7C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776760" y="3416400"/>
            <a:ext cx="5367240" cy="3441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809880" y="0"/>
            <a:ext cx="5334120" cy="3352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623560" y="1789200"/>
            <a:ext cx="23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 A: 198.9 m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12840" y="5286240"/>
            <a:ext cx="23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 B:197.8 m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2514600"/>
            <a:ext cx="3124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ison of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and B for Nit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0477-0CC9-463F-BF58-B2B3BB4C0F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997440" cy="4572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"/>
              </a:rPr>
              <a:t>State Total Target Loads</a:t>
            </a:r>
            <a:endParaRPr b="1" i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09520" y="122724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81120" y="1227240"/>
            <a:ext cx="15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spho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64771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loads are in millions of pounds per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12272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61E7-B7D7-451A-A563-7A060C6FCD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"/>
              </a:rPr>
              <a:t>Options Analysis</a:t>
            </a:r>
            <a:endParaRPr b="1" i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esults for both options are very similar (almost all are within 1%) except for the District of Columbia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ption B brings the District closer in line with the 2003 decision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D72D-3967-472E-B474-06BC961D4E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"/>
              </a:rPr>
              <a:t>Decision Requested…</a:t>
            </a:r>
            <a:endParaRPr b="1" i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Arial"/>
              </a:rPr>
              <a:t>PSC agreement on a set of nitrogen and phosphorus working target loads to each of the basin-jurisdictions for the purpose of initiating the watershed implementation planning process.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029200" y="3581280"/>
            <a:ext cx="4114800" cy="354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FE89-4EA6-438D-97BC-82B80A0021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8:05:10Z</dcterms:created>
  <dc:creator>Bob Koroncai</dc:creator>
  <dc:description/>
  <dc:language>en-US</dc:language>
  <cp:lastModifiedBy>Kristin Foringer</cp:lastModifiedBy>
  <dcterms:modified xsi:type="dcterms:W3CDTF">2009-10-22T12:37:42Z</dcterms:modified>
  <cp:revision>12</cp:revision>
  <dc:subject/>
  <dc:title>Slide 1</dc:title>
</cp:coreProperties>
</file>