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550-E904-4DF8-A6E4-C99258C2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B4B-E2AC-455C-88DC-170EE723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1DB-121B-4A78-8EB6-0522977A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E99-0ABC-4EE2-A400-C2B3DCEB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682-52EF-44B3-AA3E-B7ED3F73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ABF-E92D-4B83-877D-1807B8AB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A46-7F4A-4171-B0AA-717B933B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694-13E1-4A7F-A6B0-5E4C015B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850-97EC-4579-BAB2-4DA79BBE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E39-84CA-4B5B-AF8E-8804EA64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AF6-C886-4E1A-A9BA-4A07221D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28B-9030-43F5-92C5-C444EEDD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E523-1C8E-43CB-ACE8-3E0FCD44A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posed Bay TMDL Schedu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5105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 Early, Rich Batiuk and Bob Koronc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EPA Reg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achment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04812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sapeake Ba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s’ Staff Committee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3, 200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cision Reques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1523880"/>
            <a:ext cx="8458200" cy="48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al of the proposed October 2009-December 2010 Bay TMDL sched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Ste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PA to work with the WQ Goal Implementation Team reach agreement on a week-by-week set of specific milestones/actions to drive day-to-day work priorities and decision-making towards December 20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B1A-B3DE-4CAF-9A0D-C72FA7399E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cision Reques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523880"/>
            <a:ext cx="845820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ve forward to engage local governments, local partners on efforts to develop each jurisdiction’s plan for local imple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Ste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itiat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und of public mee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EAA-BA73-49E7-AE6B-D4EB3FB255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y TMDL Schedule Dri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A’s September 11, 2008 Letter to P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A will commit its best efforts to issue the TMDL by this earlier dat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tember 2009 202(a) E.O. Draf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cember 2010, EPA will establish a Total Maximum Daily Load (TMDL) for the Chesapeake Ba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tember 2009 Draft Reauthorization B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later than December 31, 2010, the Administrator shall establish a Chesapeake Bay-wide TMD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D22-3F6E-4C76-BB06-2555D344FF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ners’ Conc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ufficient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ngage local governments, local partners by Dec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necessary to develop local scale target load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yet 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juris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more time to addre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diment al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fficient public comment peri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to respo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ublic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3BB-8524-4944-ACCD-B0D18CACA8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Schedule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mission of watershed implementation pla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November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 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pd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shed implementation pl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local target loa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ate for submission of prelimina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shed implementation pl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Jun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raft to August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ate for releas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 Bay TMD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pporting documentation to August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the public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iod from 90 to 6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responding to publi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E54-864F-4C65-9ABA-BAE9B23A88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Milestones/Decision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ober 2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SC agreement on basinwide and basin-jurisdiction ‘working’ target 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ober 3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PA formally transmits watershed implementation plan guidance, working target loads to States, 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, DC start development of watershed implementation plans; EPA initiates first round of public meetings with juris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3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PA transmits consequences letter to States, 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801-DBF9-4D98-8341-B5A4735A71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Milestones/Decision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b 15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ck down the Phase 5.3 watershed and Bay WQ/sediment transport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il 3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SC review/agreement on the draft watershed and tidal sediment target loads; potential changes to basin/jurisdiction nutrient target 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e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, DC submit preliminary watershed implementation plans by source sector and 303(d) segment drainag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CD2-6D85-47EF-B1C3-222E9652C6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Milestones/Decision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e 2-July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PA works with jurisdictions to document draft wasteload and load allocations (from target loads) to meet states’ Bay WQ standards and revise preliminary watershed implementation plans, as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ly 15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SC reviews initial draft Bay TMDL and supporting documentation; provides EPA with requeste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gust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, DC submit revised draft watershed implementati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DE5-B77E-4CD4-B9D6-8B77911417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Milestones/Decision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g 15-October 15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PA publishes draft Bay TMDL and supporting documentation for public review and comment; hosts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und of public meetings with juris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1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submit final watershed implementation plans; EPA confirms these allocations meet states’ Bay WQ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2BF-5A63-48ED-ADA0-26B067F368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Milestones/Decision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 15-3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SC and WQGIT opportunity to review and provide specific comments to EPA on the Bay TMD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 1-15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PA prepares final Bay TMDL and supporting documentation for pub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 21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PA publication of final Bay TMDL and supporting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E1C-7AD3-40D1-9800-6058562038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38:29Z</dcterms:created>
  <dc:creator>Richard Batiuk</dc:creator>
  <dc:description/>
  <dc:language>en-US</dc:language>
  <cp:lastModifiedBy>Kristin Foringer</cp:lastModifiedBy>
  <dcterms:modified xsi:type="dcterms:W3CDTF">2009-10-15T19:37:42Z</dcterms:modified>
  <cp:revision>46</cp:revision>
  <dc:subject/>
  <dc:title>Commitments to the Principals’ Staff Committee</dc:title>
</cp:coreProperties>
</file>