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68595-CA8F-4AE0-95CA-A4D1D2D74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309A8-BA59-4262-AF0A-9EBD60D36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AE673-A079-4839-A9C2-CCCBDBEB6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E2168-C47D-483F-8B3F-95A48ABC8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66654-0987-491E-A135-94C5D6D4F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043A1-CB85-4E8A-924A-17EC7AC6F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AE559-5394-469C-8A6F-C2BDF90A5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D0646-BC0D-498E-8021-89B8262E7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0536C-9855-4710-9CFE-5AFE012B8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3FC9C-B1D7-4D69-B1EC-BD10E4311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F5EB2-96B2-4595-B42C-568FF58F3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B40DB-7EF1-4E86-87E7-834899AB0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674E3-6985-4DAA-AAA2-FE34DAC48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0ABC5-02EF-4B0D-8063-000EBCCA2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7E1A8-E965-4CF4-A255-4EE2DD543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D865C-C0DF-469C-94C3-ECA19D3A4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69054-C3C0-42B3-816A-0F80C2771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DCD70-93AD-4DC7-9064-BC4C6A7EE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745E5-C4BA-4515-9B88-55BE47CB1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B2679-AC4D-42DA-9F80-4A6888AF7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405BE-E4D8-4342-B3D7-214CF2828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B7863-6FA0-4573-874B-ECC5B69A1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ADC5A-EE54-4956-9C55-A41C81743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5EEA4-32C6-469F-9B45-406B64870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72F0E-D56C-4EE5-B391-0385F8FCE6C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A2CBE-6048-44EA-B6A5-6F82792E817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pa.gov/chesapeakebaytmd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executiveorder.chesapeakebay.net/" TargetMode="External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09480" y="1428480"/>
            <a:ext cx="7772400" cy="26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Engaging the Public</a:t>
            </a:r>
            <a:br>
              <a:rPr sz="4800"/>
            </a:br>
            <a:br>
              <a:rPr sz="4800"/>
            </a:br>
            <a:r>
              <a:rPr b="0" lang="en-US" sz="3600" spc="-1" strike="noStrike">
                <a:solidFill>
                  <a:srgbClr val="99ff99"/>
                </a:solidFill>
                <a:latin typeface="Arial"/>
              </a:rPr>
              <a:t>Executive Order-TMDL</a:t>
            </a:r>
            <a:br>
              <a:rPr sz="4800"/>
            </a:b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ctober 23, 200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BP Principals’ Staff Committee Meet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esentation No. _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m Damm, Travis Loo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.S. Environmental Protection Agenc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Key Juncture in Bay Initiativ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MDL-EO: Initiatives work together to drive progress in reducing water pollu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w era of performance and accountabi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y TMD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orking’ target loa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art of implementation plann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ecutive Ord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mminent release of draft strategy and final repor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pening of public comment perio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Outreach Objectiv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nsparency in providing inform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pportunities to solicit feedbac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mprove the EO strategy and TMD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ild stakeholder suppo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MDL Public Meeting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ick-off: Virginia public meeting/webinar, 10/2/09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rst round of public meetings – 11/4/09 through mid-Decemb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Other TMDL Outreach Opportunitie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bsite: </a:t>
            </a:r>
            <a:r>
              <a:rPr b="0" lang="en-US" sz="3200" spc="-1" strike="noStrike" u="sng">
                <a:solidFill>
                  <a:srgbClr val="99ff99"/>
                </a:solidFill>
                <a:uFillTx/>
                <a:latin typeface="Arial"/>
                <a:hlinkClick r:id="rId1"/>
              </a:rPr>
              <a:t>www.epa.gov/chesapeakebaytmd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ve gathering, will tra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akeholder events, meetings, conferen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Executive Order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v. 9 release of draft strategy, final repor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ublic forums: November, December 200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bsite: </a:t>
            </a:r>
            <a:r>
              <a:rPr b="0" lang="en-US" sz="2800" spc="-1" strike="noStrike" u="sng">
                <a:solidFill>
                  <a:srgbClr val="99ff99"/>
                </a:solidFill>
                <a:uFillTx/>
                <a:latin typeface="Arial"/>
                <a:hlinkClick r:id="rId1"/>
              </a:rPr>
              <a:t>http://executiveorder.chesapeakebay.net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gulations.gov for com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Initial TMDL Not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ork in progr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raft TMDL due mid-2010, final due December 20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t the implementation planning begin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orking target loads will be refined based on new inpu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ottom line: Loads will achieve states’ Bay water quality standar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8T20:52:16Z</dcterms:created>
  <dc:creator>tdamm</dc:creator>
  <dc:description/>
  <dc:language>en-US</dc:language>
  <cp:lastModifiedBy>tloop</cp:lastModifiedBy>
  <dcterms:modified xsi:type="dcterms:W3CDTF">2009-10-20T21:36:59Z</dcterms:modified>
  <cp:revision>6</cp:revision>
  <dc:subject/>
  <dc:title>Engaging the Public</dc:title>
</cp:coreProperties>
</file>