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C95-E21A-4CE8-B9C2-1641D601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6D8-832A-45A0-B22C-C2CF789D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4B8-DD8A-4243-9ECD-5997B0E9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0F2-B071-4B76-B411-A061018A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929-0F82-4FF6-886A-F11A9D89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487-8824-4503-B2F3-98FDC9B5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177-0B6F-4AE2-8715-EFD6ACA4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CEB-E246-4798-B395-A120B00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02B-7FC5-4064-B570-63DDC2BB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5C9-758C-486D-840F-A898A51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047-8384-4D4D-BE5B-7D2AA0D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F15-1E44-424E-8296-09F2623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21FC-10E0-404F-89DC-D071AD0CB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052" r="10059" b="0"/>
          <a:stretch/>
        </p:blipFill>
        <p:spPr>
          <a:xfrm>
            <a:off x="1523880" y="1447920"/>
            <a:ext cx="6248520" cy="4894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781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y Kent Mount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hesapeake Bay Program Partnership’s SAV Aerial and Ground Surveys Design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9T05:22:42Z</dcterms:created>
  <dc:creator>blandry</dc:creator>
  <dc:description/>
  <dc:language>en-US</dc:language>
  <cp:lastModifiedBy>blandry</cp:lastModifiedBy>
  <dcterms:modified xsi:type="dcterms:W3CDTF">2017-03-29T05:23:21Z</dcterms:modified>
  <cp:revision>2</cp:revision>
  <dc:subject/>
  <dc:title>Slide 1</dc:title>
</cp:coreProperties>
</file>