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22FF-140E-4951-B988-1DB7F151C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A3FB-A599-4EDE-B809-11390B61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g consumption advisories are widespread in US and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D one of the later states to provide consumption advice for 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g deposition rates are relatively high in M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adp.sws.uiuc.edu/conf/2014/pptpdf/Weiss-Penzias.p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CDB9-BE6B-4987-A79C-4503D082F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ites are declining in Hg concentration and deposition. Increasing deposition in the SE is slowing the trend t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DA8C-C746-4B3D-9D54-0264E88F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recent increases in deposition; NOT related to increasing p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F810-A0DA-4773-BD03-6F673D976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BEB-06C1-4F7E-ACEB-9917BED1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D45-3DB3-4B0F-BD5D-282EE66A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6F9-30E5-4DC1-8938-C967F270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7CF-76F7-4553-89E7-9E3492F5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3C8-9C34-4DEB-A387-D7A49957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C625-B4DF-43F1-9DD0-668EFF5C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2E0-2562-4374-BD28-65559EA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0A3-381B-4783-A47B-9E8C129C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4A6-86C0-4C2D-BD87-2B6D457C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F15-2257-4186-8C57-F5204060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D52-4BC6-452E-9925-72D722E3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8A8-AE1A-4291-ACF7-5F6D0AC7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50F1-48C2-4602-9653-508D28675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Calibri"/>
              </a:rPr>
              <a:t>Mercury Deposition Net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ree MDN sites in M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99 Beltsville – operated by UMD/College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, Tekran air monitoring, AMNET 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08 Frostburg- operated by UM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, Tekran air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D00 -Edgewater – operated by SE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Wet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creen Shot 2015-05-12 at 4.46.24 PM.png"/>
          <p:cNvPicPr/>
          <p:nvPr/>
        </p:nvPicPr>
        <p:blipFill>
          <a:blip r:embed="rId1"/>
          <a:stretch/>
        </p:blipFill>
        <p:spPr>
          <a:xfrm>
            <a:off x="4699080" y="0"/>
            <a:ext cx="444024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73600" y="368280"/>
            <a:ext cx="440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DN Sites in the Chesapeake Wate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: a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: Dis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1371600" y="1066680"/>
            <a:ext cx="7646760" cy="5067360"/>
            <a:chOff x="1371600" y="1066680"/>
            <a:chExt cx="7646760" cy="5067360"/>
          </a:xfrm>
        </p:grpSpPr>
        <p:pic>
          <p:nvPicPr>
            <p:cNvPr id="53" name="Picture 4" descr="MDN dep 1998"/>
            <p:cNvPicPr/>
            <p:nvPr/>
          </p:nvPicPr>
          <p:blipFill>
            <a:blip r:embed="rId1"/>
            <a:stretch/>
          </p:blipFill>
          <p:spPr>
            <a:xfrm>
              <a:off x="1371600" y="1066680"/>
              <a:ext cx="7081200" cy="50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7170480" y="3410640"/>
              <a:ext cx="1847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1997/1998 M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data from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son et al. 2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6"/>
            <p:cNvSpPr/>
            <p:nvPr/>
          </p:nvSpPr>
          <p:spPr>
            <a:xfrm>
              <a:off x="6770520" y="3686400"/>
              <a:ext cx="65880" cy="68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7"/>
            <p:cNvSpPr/>
            <p:nvPr/>
          </p:nvSpPr>
          <p:spPr>
            <a:xfrm>
              <a:off x="6573240" y="3686400"/>
              <a:ext cx="65880" cy="6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8"/>
            <p:cNvSpPr/>
            <p:nvPr/>
          </p:nvSpPr>
          <p:spPr>
            <a:xfrm>
              <a:off x="6836760" y="3824280"/>
              <a:ext cx="65880" cy="6876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9"/>
            <p:cNvSpPr/>
            <p:nvPr/>
          </p:nvSpPr>
          <p:spPr>
            <a:xfrm>
              <a:off x="6902640" y="3686400"/>
              <a:ext cx="65520" cy="684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6310440" y="3617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6837120" y="38242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6507720" y="36864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6903000" y="354852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Screen Shot 2015-05-12 at 4.43.38 PM.png"/>
          <p:cNvPicPr/>
          <p:nvPr/>
        </p:nvPicPr>
        <p:blipFill>
          <a:blip r:embed="rId1"/>
          <a:stretch/>
        </p:blipFill>
        <p:spPr>
          <a:xfrm>
            <a:off x="431640" y="-3240"/>
            <a:ext cx="858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1368360" y="1258920"/>
            <a:ext cx="7280280" cy="4925880"/>
          </a:xfrm>
          <a:prstGeom prst="rect">
            <a:avLst/>
          </a:prstGeom>
          <a:ln w="0">
            <a:noFill/>
          </a:ln>
        </p:spPr>
      </p:pic>
      <p:sp>
        <p:nvSpPr>
          <p:cNvPr id="65" name="Title 1"/>
          <p:cNvSpPr/>
          <p:nvPr/>
        </p:nvSpPr>
        <p:spPr>
          <a:xfrm>
            <a:off x="395280" y="152280"/>
            <a:ext cx="8229600" cy="1006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nual volume-weighted Hg concentrations in wet de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Screen Shot 2015-05-12 at 4.55.46 PM.png"/>
          <p:cNvPicPr/>
          <p:nvPr/>
        </p:nvPicPr>
        <p:blipFill>
          <a:blip r:embed="rId1"/>
          <a:stretch/>
        </p:blipFill>
        <p:spPr>
          <a:xfrm>
            <a:off x="0" y="0"/>
            <a:ext cx="90979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57680" y="6478560"/>
            <a:ext cx="84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, Gay, Brigham, Parsons and Ter Schure, NADP presentation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Screen Shot 2015-05-12 at 5.03.21 PM.png"/>
          <p:cNvPicPr/>
          <p:nvPr/>
        </p:nvPicPr>
        <p:blipFill>
          <a:blip r:embed="rId1"/>
          <a:stretch/>
        </p:blipFill>
        <p:spPr>
          <a:xfrm>
            <a:off x="15840" y="0"/>
            <a:ext cx="912816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05840" y="6478560"/>
            <a:ext cx="47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 et al. NADP presentation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18000" y="144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-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1" descr=""/>
          <p:cNvPicPr/>
          <p:nvPr/>
        </p:nvPicPr>
        <p:blipFill>
          <a:blip r:embed="rId1"/>
          <a:stretch/>
        </p:blipFill>
        <p:spPr>
          <a:xfrm>
            <a:off x="4514760" y="2048040"/>
            <a:ext cx="4467240" cy="3794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2"/>
          <a:stretch/>
        </p:blipFill>
        <p:spPr>
          <a:xfrm>
            <a:off x="0" y="2055960"/>
            <a:ext cx="4459320" cy="37861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  <a:ea typeface="Calibri"/>
              </a:rPr>
              <a:t>Annual trends in Hg Deposition </a:t>
            </a:r>
            <a:br>
              <a:rPr sz="44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Calibri"/>
              </a:rPr>
              <a:t>SMK PWM residual method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0" y="2728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-15480" y="123055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048360" y="1952640"/>
            <a:ext cx="15969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008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258920" y="1947960"/>
            <a:ext cx="167004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998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1"/>
          <p:cNvSpPr/>
          <p:nvPr/>
        </p:nvSpPr>
        <p:spPr>
          <a:xfrm flipV="1">
            <a:off x="3384720" y="5229000"/>
            <a:ext cx="66168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9"/>
          <p:cNvSpPr/>
          <p:nvPr/>
        </p:nvSpPr>
        <p:spPr>
          <a:xfrm flipV="1">
            <a:off x="7993080" y="5229000"/>
            <a:ext cx="662040" cy="4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3"/>
          <p:cNvSpPr/>
          <p:nvPr/>
        </p:nvSpPr>
        <p:spPr>
          <a:xfrm>
            <a:off x="1979640" y="5805360"/>
            <a:ext cx="51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Sites marked with a star have trends that are significant (p &lt; 0.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50400" y="6478560"/>
            <a:ext cx="85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Weiss, Gay et al. Canadian Geophysical Union Joint Assembly, Ma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2:06:03Z</dcterms:modified>
  <cp:revision>28</cp:revision>
  <dc:subject/>
  <dc:title>Slide 1</dc:title>
</cp:coreProperties>
</file>