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845F-4973-4943-974F-053358486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861-65FB-4E70-98BF-D681727D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70C5-A76D-4DF5-9C17-BF62D589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537-670B-4E48-A2ED-7CB085D19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02B-FB9B-4825-8FEC-79B212FD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47A-56DE-4D50-9A16-1E0AC8CF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B97-A66C-4EC7-8127-D1FA6B5B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F9B-C7FC-4D70-9894-FC7463C1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99A-7DFF-48B2-B2D4-3B811EBA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A26F-1686-4C43-9D91-EADD03DE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B25-38F4-4F04-A468-66AE6D62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F0F-EDB0-48F0-9705-75E844F0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0B39-280B-4A37-8C84-EB105FC47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image" Target="../media/image3.wmf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2920" y="152280"/>
            <a:ext cx="8677080" cy="6589800"/>
          </a:xfrm>
          <a:prstGeom prst="rect">
            <a:avLst/>
          </a:prstGeom>
          <a:noFill/>
          <a:ln w="507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2268360" y="5697360"/>
            <a:ext cx="274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Methylmercury Production in Ground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6"/>
          <p:cNvGrpSpPr/>
          <p:nvPr/>
        </p:nvGrpSpPr>
        <p:grpSpPr>
          <a:xfrm>
            <a:off x="420840" y="297000"/>
            <a:ext cx="8285040" cy="5373000"/>
            <a:chOff x="420840" y="297000"/>
            <a:chExt cx="8285040" cy="5373000"/>
          </a:xfrm>
        </p:grpSpPr>
        <p:sp>
          <p:nvSpPr>
            <p:cNvPr id="44" name="TextBox 7"/>
            <p:cNvSpPr/>
            <p:nvPr/>
          </p:nvSpPr>
          <p:spPr>
            <a:xfrm>
              <a:off x="709920" y="297000"/>
              <a:ext cx="799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Arial"/>
                </a:rPr>
                <a:t>Watershed Hg Research Program at SER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8"/>
            <p:cNvGrpSpPr/>
            <p:nvPr/>
          </p:nvGrpSpPr>
          <p:grpSpPr>
            <a:xfrm>
              <a:off x="1053000" y="2595240"/>
              <a:ext cx="4873680" cy="3074760"/>
              <a:chOff x="1053000" y="2595240"/>
              <a:chExt cx="4873680" cy="3074760"/>
            </a:xfrm>
          </p:grpSpPr>
          <p:grpSp>
            <p:nvGrpSpPr>
              <p:cNvPr id="46" name="Group 24"/>
              <p:cNvGrpSpPr/>
              <p:nvPr/>
            </p:nvGrpSpPr>
            <p:grpSpPr>
              <a:xfrm>
                <a:off x="1379520" y="3346200"/>
                <a:ext cx="3866400" cy="2041920"/>
                <a:chOff x="1379520" y="3346200"/>
                <a:chExt cx="3866400" cy="2041920"/>
              </a:xfrm>
            </p:grpSpPr>
            <p:sp>
              <p:nvSpPr>
                <p:cNvPr id="47" name="Freeform 25"/>
                <p:cNvSpPr/>
                <p:nvPr/>
              </p:nvSpPr>
              <p:spPr>
                <a:xfrm>
                  <a:off x="1379520" y="4472640"/>
                  <a:ext cx="3866400" cy="844920"/>
                </a:xfrm>
                <a:custGeom>
                  <a:avLst/>
                  <a:gdLst/>
                  <a:ahLst/>
                  <a:rect l="l" t="t" r="r" b="b"/>
                  <a:pathLst>
                    <a:path w="3216" h="432">
                      <a:moveTo>
                        <a:pt x="0" y="96"/>
                      </a:moveTo>
                      <a:cubicBezTo>
                        <a:pt x="336" y="48"/>
                        <a:pt x="672" y="0"/>
                        <a:pt x="864" y="0"/>
                      </a:cubicBezTo>
                      <a:cubicBezTo>
                        <a:pt x="1056" y="0"/>
                        <a:pt x="1008" y="56"/>
                        <a:pt x="1152" y="96"/>
                      </a:cubicBezTo>
                      <a:cubicBezTo>
                        <a:pt x="1296" y="136"/>
                        <a:pt x="1488" y="192"/>
                        <a:pt x="1728" y="240"/>
                      </a:cubicBezTo>
                      <a:cubicBezTo>
                        <a:pt x="1968" y="288"/>
                        <a:pt x="2344" y="352"/>
                        <a:pt x="2592" y="384"/>
                      </a:cubicBezTo>
                      <a:cubicBezTo>
                        <a:pt x="2840" y="416"/>
                        <a:pt x="3112" y="424"/>
                        <a:pt x="3216" y="432"/>
                      </a:cubicBezTo>
                    </a:path>
                  </a:pathLst>
                </a:custGeom>
                <a:noFill/>
                <a:ln w="57240">
                  <a:solidFill>
                    <a:srgbClr val="00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8" name="Picture 26" descr="NA01240_"/>
                <p:cNvPicPr/>
                <p:nvPr/>
              </p:nvPicPr>
              <p:blipFill>
                <a:blip r:embed="rId1"/>
                <a:stretch/>
              </p:blipFill>
              <p:spPr>
                <a:xfrm flipH="1">
                  <a:off x="1379520" y="3346200"/>
                  <a:ext cx="669600" cy="1290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27" descr="NA01260_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83440" y="3627720"/>
                  <a:ext cx="595080" cy="119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28" descr="NA01240_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2187000" y="3815640"/>
                  <a:ext cx="669240" cy="1290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29" descr="NA00134_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5680" y="4754520"/>
                  <a:ext cx="263160" cy="53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" name="Picture 30" descr="NA00134_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957560" y="4848480"/>
                  <a:ext cx="262800" cy="53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31" descr="NA01260_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456720" y="4191120"/>
                  <a:ext cx="595080" cy="1197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32" descr="NA00134_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726440" y="4848480"/>
                  <a:ext cx="263160" cy="53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55" name="Group 19"/>
              <p:cNvGrpSpPr/>
              <p:nvPr/>
            </p:nvGrpSpPr>
            <p:grpSpPr>
              <a:xfrm>
                <a:off x="1053000" y="2595240"/>
                <a:ext cx="4873680" cy="3074760"/>
                <a:chOff x="1053000" y="2595240"/>
                <a:chExt cx="4873680" cy="3074760"/>
              </a:xfrm>
            </p:grpSpPr>
            <p:grpSp>
              <p:nvGrpSpPr>
                <p:cNvPr id="56" name="Group 11"/>
                <p:cNvGrpSpPr/>
                <p:nvPr/>
              </p:nvGrpSpPr>
              <p:grpSpPr>
                <a:xfrm>
                  <a:off x="2360520" y="2595240"/>
                  <a:ext cx="1554480" cy="938520"/>
                  <a:chOff x="2360520" y="2595240"/>
                  <a:chExt cx="1554480" cy="938520"/>
                </a:xfrm>
              </p:grpSpPr>
              <p:sp>
                <p:nvSpPr>
                  <p:cNvPr id="57" name="AutoShape 12"/>
                  <p:cNvSpPr/>
                  <p:nvPr/>
                </p:nvSpPr>
                <p:spPr>
                  <a:xfrm>
                    <a:off x="2360520" y="2595240"/>
                    <a:ext cx="230400" cy="938520"/>
                  </a:xfrm>
                  <a:prstGeom prst="downArrow">
                    <a:avLst>
                      <a:gd name="adj1" fmla="val 50000"/>
                      <a:gd name="adj2" fmla="val 101836"/>
                    </a:avLst>
                  </a:prstGeom>
                  <a:solidFill>
                    <a:srgbClr val="4f81b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Text Box 13"/>
                  <p:cNvSpPr/>
                  <p:nvPr/>
                </p:nvSpPr>
                <p:spPr>
                  <a:xfrm>
                    <a:off x="2658240" y="2689200"/>
                    <a:ext cx="1256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Depositio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" name="AutoShape 14"/>
                <p:cNvSpPr/>
                <p:nvPr/>
              </p:nvSpPr>
              <p:spPr>
                <a:xfrm rot="17365200">
                  <a:off x="2980440" y="4278240"/>
                  <a:ext cx="375480" cy="577080"/>
                </a:xfrm>
                <a:prstGeom prst="downArrow">
                  <a:avLst>
                    <a:gd name="adj1" fmla="val 50000"/>
                    <a:gd name="adj2" fmla="val 38423"/>
                  </a:avLst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Text Box 15"/>
                <p:cNvSpPr/>
                <p:nvPr/>
              </p:nvSpPr>
              <p:spPr>
                <a:xfrm>
                  <a:off x="2702160" y="3825360"/>
                  <a:ext cx="1157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Text Box 16"/>
                <p:cNvSpPr/>
                <p:nvPr/>
              </p:nvSpPr>
              <p:spPr>
                <a:xfrm>
                  <a:off x="1053000" y="5013360"/>
                  <a:ext cx="2235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Watershed reten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Text Box 33"/>
                <p:cNvSpPr/>
                <p:nvPr/>
              </p:nvSpPr>
              <p:spPr>
                <a:xfrm>
                  <a:off x="4332600" y="5301720"/>
                  <a:ext cx="1410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ethylation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AutoShape 35"/>
                <p:cNvSpPr/>
                <p:nvPr/>
              </p:nvSpPr>
              <p:spPr>
                <a:xfrm rot="17365200">
                  <a:off x="5403960" y="5029560"/>
                  <a:ext cx="375480" cy="577080"/>
                </a:xfrm>
                <a:prstGeom prst="downArrow">
                  <a:avLst>
                    <a:gd name="adj1" fmla="val 50000"/>
                    <a:gd name="adj2" fmla="val 38423"/>
                  </a:avLst>
                </a:prstGeom>
                <a:solidFill>
                  <a:srgbClr val="4f81b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" name="Group 9"/>
            <p:cNvGrpSpPr/>
            <p:nvPr/>
          </p:nvGrpSpPr>
          <p:grpSpPr>
            <a:xfrm>
              <a:off x="420840" y="1190160"/>
              <a:ext cx="1659240" cy="2718360"/>
              <a:chOff x="420840" y="1190160"/>
              <a:chExt cx="1659240" cy="2718360"/>
            </a:xfrm>
          </p:grpSpPr>
          <p:pic>
            <p:nvPicPr>
              <p:cNvPr id="65" name="Picture 179" descr="DSCN2394"/>
              <p:cNvPicPr/>
              <p:nvPr/>
            </p:nvPicPr>
            <p:blipFill>
              <a:blip r:embed="rId8"/>
              <a:stretch/>
            </p:blipFill>
            <p:spPr>
              <a:xfrm>
                <a:off x="420840" y="1190160"/>
                <a:ext cx="1659240" cy="271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TextBox 17"/>
              <p:cNvSpPr/>
              <p:nvPr/>
            </p:nvSpPr>
            <p:spPr>
              <a:xfrm>
                <a:off x="581040" y="1592640"/>
                <a:ext cx="1227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MDN si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MD0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Group 10"/>
            <p:cNvGrpSpPr/>
            <p:nvPr/>
          </p:nvGrpSpPr>
          <p:grpSpPr>
            <a:xfrm>
              <a:off x="3937680" y="2106360"/>
              <a:ext cx="2039760" cy="2072880"/>
              <a:chOff x="3937680" y="2106360"/>
              <a:chExt cx="2039760" cy="2072880"/>
            </a:xfrm>
          </p:grpSpPr>
          <p:pic>
            <p:nvPicPr>
              <p:cNvPr id="68" name="Picture 651" descr="DSCN4169 small"/>
              <p:cNvPicPr/>
              <p:nvPr/>
            </p:nvPicPr>
            <p:blipFill>
              <a:blip r:embed="rId9"/>
              <a:stretch/>
            </p:blipFill>
            <p:spPr>
              <a:xfrm>
                <a:off x="3937680" y="2106360"/>
                <a:ext cx="2039760" cy="20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TextBox 15"/>
              <p:cNvSpPr/>
              <p:nvPr/>
            </p:nvSpPr>
            <p:spPr>
              <a:xfrm>
                <a:off x="4112640" y="2203560"/>
                <a:ext cx="1244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tream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onitor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TextBox 13"/>
            <p:cNvSpPr/>
            <p:nvPr/>
          </p:nvSpPr>
          <p:spPr>
            <a:xfrm>
              <a:off x="6944040" y="1320120"/>
              <a:ext cx="1068120" cy="89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38160" bIns="381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randon Shores w/ FG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AutoShape 35"/>
          <p:cNvSpPr/>
          <p:nvPr/>
        </p:nvSpPr>
        <p:spPr>
          <a:xfrm rot="16200000">
            <a:off x="7466760" y="4768920"/>
            <a:ext cx="376200" cy="1393920"/>
          </a:xfrm>
          <a:prstGeom prst="downArrow">
            <a:avLst>
              <a:gd name="adj1" fmla="val 50000"/>
              <a:gd name="adj2" fmla="val 6238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3"/>
          <p:cNvSpPr/>
          <p:nvPr/>
        </p:nvSpPr>
        <p:spPr>
          <a:xfrm>
            <a:off x="6454800" y="4400640"/>
            <a:ext cx="20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 and Me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x from 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tle 1"/>
          <p:cNvSpPr/>
          <p:nvPr/>
        </p:nvSpPr>
        <p:spPr>
          <a:xfrm>
            <a:off x="142920" y="115920"/>
            <a:ext cx="3719520" cy="20383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  <a:ea typeface="Calibri"/>
              </a:rPr>
              <a:t>Differences in chemistry among watersh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4427640" y="85680"/>
            <a:ext cx="471636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le 1"/>
          <p:cNvSpPr/>
          <p:nvPr/>
        </p:nvSpPr>
        <p:spPr>
          <a:xfrm>
            <a:off x="431640" y="81000"/>
            <a:ext cx="8229600" cy="684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  <a:ea typeface="Calibri"/>
              </a:rPr>
              <a:t>Filterable Hg and MeHg flux normalized to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4088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tle 1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  <a:ea typeface="Calibri"/>
              </a:rPr>
              <a:t>Particulate Hg and MeHg y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142920" y="1376280"/>
            <a:ext cx="244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Yields are different among watersh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rticulate yields are driven by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ighly erodible W109 has highest particle f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2673360" y="1557360"/>
            <a:ext cx="64706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03280" y="94428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g and MeHg fluxes from coastal plain watersheds did not change appreciably over the study period, consistent with no change in Hg wet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timing of any response in stream flux to changes in Hg deposition remains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mplementation of federal Hg and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emissions standards may finally drive down Hg deposition in Maryland in the next de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and use and BMPs have strong effects on Hg and MeHg fl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orested watersheds transport more Hg and MeHg - perhaps due to higher dry deposition, perhaps due to DOC-enhanced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rodible landscapes transport much higher masses of both Hg and Me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Wet bottom lands in the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astal plain can enhance MeHg production, and the amount is impacted by 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: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ratios, and seasonal rain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astal plain bottom lands support MeHg production in shallow anaerobic ground waters, helped along by sulfate in so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le 1"/>
          <p:cNvSpPr/>
          <p:nvPr/>
        </p:nvSpPr>
        <p:spPr>
          <a:xfrm>
            <a:off x="539640" y="15840"/>
            <a:ext cx="8229600" cy="792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tle 1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mplications for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rosion control practices should reduce Hg and MeHg fluxes to the Chesapeake and other receiving water bod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ulfate emissions controls should continue to reduce MeHg production in watersheds outside the coastal zone (where soils derived from marine sediments have naturally high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MPs and restoration practices for N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removal should be examined and designed for minimal impact on MeHg 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Increasing rainfall intensity could exacerbate particulate Hg and MeHg flu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itle 1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Why contin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The original goal of testing the impact of reduced emissions on Hg and MeHg in streams is still valid – and may be testable in the next several years as nationwide emissions dro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egenerative Storm Water Conveyance (RSC) installation in Muddy Creek (W101) in late 2015 will test how this restoration practice impacts MeHg produ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Planned parallel testing in high impervious surfaces watersheds in the South River bas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etter evaluate the role of changing rainfall patterns, temperature and climate on Hg and MeHg in coastal plain watershe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ERC SIT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have continuously monitored Hg and MeHg fate and transport from the three first order Maryland coastal plain watersheds since 200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measure flow-weighted fluxes of total and MeHg, both in filterable and particulate phases, weekly, along with a suite of other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atersheds studied include three land-use types – forest, agriculture and mixed develop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water processes are studied using sets well transects in W110 and W109, and with periodic stream transec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t deposition is measured locally at Mercury Deposition Network Site MD0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Goal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of watershed Hg and MeHg yields in the mid-Atlantic Coastal 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of MeHg production and its hydrologic and biogeochemical controls in shallow ground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ment of a baseline against which to assess any change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405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 Hg emissions regulations in Maryland, the region, and the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405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 additional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N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C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r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405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d u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405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of restorations/B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4050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s in flow regime and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cknowledgements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aryland DNR PPRP 2007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struction award for Muddy Creek Regenerative Stormwater Conveyance 2014-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mithsonian Estuarine Research Center 1971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SF ARRA Infrastructure award for SERC Ecosystems 2011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ational Science Foundation grant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  <a:ea typeface="Calibri"/>
              </a:rPr>
              <a:t>DEB0351050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H and CG 2005-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BT award for monitoring SERC RSC 2015-2018 to Jordan and Gilm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-12600" y="836640"/>
            <a:ext cx="9144000" cy="3917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0" y="4941720"/>
            <a:ext cx="9144000" cy="1735200"/>
          </a:xfrm>
          <a:prstGeom prst="rect">
            <a:avLst/>
          </a:prstGeom>
          <a:ln w="0">
            <a:noFill/>
          </a:ln>
        </p:spPr>
      </p:pic>
      <p:sp>
        <p:nvSpPr>
          <p:cNvPr id="81" name="Title 1"/>
          <p:cNvSpPr/>
          <p:nvPr/>
        </p:nvSpPr>
        <p:spPr>
          <a:xfrm>
            <a:off x="431640" y="0"/>
            <a:ext cx="8229600" cy="7063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  <a:ea typeface="Calibri"/>
              </a:rPr>
              <a:t>Example Date – Hg, MeHg, Stream 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864720" y="2457360"/>
            <a:ext cx="7688880" cy="3111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ekly flow-weighted samples (refrigerated IS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ow based on water depth in a v-notch weir (stilling well + rating cur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ter depth triggers ISCO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e range of analytes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utri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ions (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ase cations (ICP-O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OC and spectral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rticulate and filte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, alkalinity from g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4032360" y="0"/>
            <a:ext cx="48956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250920" y="260280"/>
            <a:ext cx="29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ekly precipitation at SERC and area weighted water flux from watershe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tle 1"/>
          <p:cNvSpPr/>
          <p:nvPr/>
        </p:nvSpPr>
        <p:spPr>
          <a:xfrm>
            <a:off x="468360" y="152280"/>
            <a:ext cx="8229600" cy="7066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  <a:ea typeface="Calibri"/>
              </a:rPr>
              <a:t>Stream flow and y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2"/>
          <p:cNvGrpSpPr/>
          <p:nvPr/>
        </p:nvGrpSpPr>
        <p:grpSpPr>
          <a:xfrm>
            <a:off x="1258920" y="1052640"/>
            <a:ext cx="6985080" cy="5805360"/>
            <a:chOff x="1258920" y="1052640"/>
            <a:chExt cx="6985080" cy="5805360"/>
          </a:xfrm>
        </p:grpSpPr>
        <p:pic>
          <p:nvPicPr>
            <p:cNvPr id="87" name="Picture 1" descr=""/>
            <p:cNvPicPr/>
            <p:nvPr/>
          </p:nvPicPr>
          <p:blipFill>
            <a:blip r:embed="rId1"/>
            <a:stretch/>
          </p:blipFill>
          <p:spPr>
            <a:xfrm>
              <a:off x="1258920" y="1052640"/>
              <a:ext cx="6985080" cy="27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4" descr=""/>
            <p:cNvPicPr/>
            <p:nvPr/>
          </p:nvPicPr>
          <p:blipFill>
            <a:blip r:embed="rId2"/>
            <a:stretch/>
          </p:blipFill>
          <p:spPr>
            <a:xfrm>
              <a:off x="1636200" y="4038120"/>
              <a:ext cx="6607800" cy="281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647640" y="1197000"/>
            <a:ext cx="7848720" cy="4546440"/>
          </a:xfrm>
          <a:prstGeom prst="rect">
            <a:avLst/>
          </a:prstGeom>
          <a:ln w="0">
            <a:noFill/>
          </a:ln>
        </p:spPr>
      </p:pic>
      <p:sp>
        <p:nvSpPr>
          <p:cNvPr id="90" name="Title 1"/>
          <p:cNvSpPr/>
          <p:nvPr/>
        </p:nvSpPr>
        <p:spPr>
          <a:xfrm>
            <a:off x="468360" y="152280"/>
            <a:ext cx="8229600" cy="7066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  <a:ea typeface="Calibri"/>
              </a:rPr>
              <a:t>Seasonality in MeHg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le 1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  <a:ea typeface="Calibri"/>
              </a:rPr>
              <a:t>Filterable Hg and MeHg y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142920" y="1376280"/>
            <a:ext cx="29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eHg and Hg yields are different among watersh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ut yields are not changing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ilterable (bioavailable) Hg and MeHg flux is highest from the forested cat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336840" y="1197000"/>
            <a:ext cx="5805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3:36:42Z</dcterms:created>
  <dc:creator>Gilmour</dc:creator>
  <dc:description/>
  <dc:language>en-US</dc:language>
  <cp:lastModifiedBy>Cynthia Gilmour</cp:lastModifiedBy>
  <dcterms:modified xsi:type="dcterms:W3CDTF">2015-05-12T21:41:52Z</dcterms:modified>
  <cp:revision>26</cp:revision>
  <dc:subject/>
  <dc:title>Slide 1</dc:title>
</cp:coreProperties>
</file>