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2F69-C8A7-4006-8202-B2DECA9E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690-F61E-436C-BC1E-7C0145C6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A03A-6BB0-4D3E-9CA4-0199D682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89A-E6FC-47ED-A00E-E26A57D4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69E-BA1B-44E1-B561-2F8892E6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1BF-65B5-46CC-BB90-7888C706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7BB-6E58-4A60-A358-CF276BEC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FDE-C1AA-445E-84EB-8B5A9BC5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9D2-FA12-4DD0-B4F0-CCCB3BC4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011-3D41-4262-92DC-EA9FC382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4B1D-4AD5-4EE0-8A98-D10F2474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411F-3936-41D6-9346-5F0C01D7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B653-805F-45CE-8C73-AB19E8912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oughts on Mercury Monitoring Needs for the Chesapeake and its Water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31640" y="1197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ngo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g in creel-sized fish in CB, impoundments and 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uman risk assessment and consumption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ased on fish size and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one in MD by MDE/D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 raw data online/update data in EPA on-line fish tissue databas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asurement of Hg in YOY f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arliest indicator of success/change in response to emissions controls, management practices, changing climate or whatever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one by MD by DNR/UMC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 raw dat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ontent Placeholder 3" descr="Screen Shot 2015-05-12 at 5.24.38 PM.png"/>
          <p:cNvPicPr/>
          <p:nvPr/>
        </p:nvPicPr>
        <p:blipFill>
          <a:blip r:embed="rId1"/>
          <a:srcRect l="0" t="8596" r="0" b="8596"/>
          <a:stretch/>
        </p:blipFill>
        <p:spPr>
          <a:xfrm>
            <a:off x="647640" y="137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687960" y="225360"/>
            <a:ext cx="412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A National Listing of Fish Advis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 Tissue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s with fish tissue H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44880" y="6273720"/>
            <a:ext cx="28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500 records; 1991- 2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457200" y="189000"/>
            <a:ext cx="8435880" cy="936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rcury Monitoring Needs for the Chesape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31640" y="1197000"/>
            <a:ext cx="846144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Ongo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Hg wet deposition and air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ed on MDN website/QA by NADP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till missing a good indicator for “dry” de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ack of sites in VA/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Rainfall, sulfate and nitrate deposition (NA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asonality of precipitation and deposition are cha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ed on MDN website/QA by NA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astal plain stream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@ SERC, weekly during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rovides response of stream Hg/MeHg flux to changing deposition, landuse, rai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Concurrent with other water quality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ost raw data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rcury Monitoring Needs for the Chesape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1640" y="1304640"/>
            <a:ext cx="82296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Need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n ongoing measure program for riverine Hg and MeHg inputs to the B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Add toxics measurements to fall-line monitoring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Mercury emissions data from power plants made available on line, near-re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Evaluation of non-power plant emissions sources in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Sediment database for 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Updated Hg and MeHg budgets for C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freddy Hg.jpg"/>
          <p:cNvPicPr/>
          <p:nvPr/>
        </p:nvPicPr>
        <p:blipFill>
          <a:blip r:embed="rId1"/>
          <a:stretch/>
        </p:blipFill>
        <p:spPr>
          <a:xfrm>
            <a:off x="900000" y="6922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3:36:42Z</dcterms:created>
  <dc:creator>Gilmour</dc:creator>
  <dc:description/>
  <dc:language>en-US</dc:language>
  <cp:lastModifiedBy>Cynthia Gilmour</cp:lastModifiedBy>
  <dcterms:modified xsi:type="dcterms:W3CDTF">2015-05-12T21:53:32Z</dcterms:modified>
  <cp:revision>27</cp:revision>
  <dc:subject/>
  <dc:title>Slide 1</dc:title>
</cp:coreProperties>
</file>